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79280" y="6561000"/>
            <a:ext cx="1067040" cy="238320"/>
            <a:chOff x="179280" y="6561000"/>
            <a:chExt cx="1067040" cy="238320"/>
          </a:xfrm>
        </p:grpSpPr>
        <p:pic>
          <p:nvPicPr>
            <p:cNvPr id="8" name="" descr=""/>
            <p:cNvPicPr/>
            <p:nvPr/>
          </p:nvPicPr>
          <p:blipFill>
            <a:blip r:embed="rId2"/>
            <a:stretch/>
          </p:blipFill>
          <p:spPr>
            <a:xfrm>
              <a:off x="179280" y="6561000"/>
              <a:ext cx="106704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PlaceHolder 3"/>
            <p:cNvSpPr>
              <a:spLocks noGrp="1"/>
            </p:cNvSpPr>
            <p:nvPr>
              <p:ph type="ftr" idx="1"/>
            </p:nvPr>
          </p:nvSpPr>
          <p:spPr>
            <a:xfrm>
              <a:off x="179280" y="6561000"/>
              <a:ext cx="1067040" cy="23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484360" y="6524640"/>
            <a:ext cx="65534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</a:t>
            </a:r>
            <a:fld id="{43D13169-9FE2-4005-BCFB-CC9EDC76C427}" type="datetime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28.07.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B866BA77-A35C-441A-8BBE-31C4BB2AD45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746680"/>
            <a:ext cx="45720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c 2</a:t>
            </a:r>
            <a:r>
              <a:rPr b="1" lang="en-GB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, 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 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- Strictly Confidential 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2720880"/>
            <a:ext cx="88203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ew 65/75 Relaun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 Product Fit improvement measur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ribution, Volume, Res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E. Remerie, W. Klebsch, U. Syd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2000" y="152280"/>
            <a:ext cx="8813880" cy="26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23720" y="225360"/>
            <a:ext cx="39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oty Statu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004-11-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36600" y="1190520"/>
          <a:ext cx="8702640" cy="5313600"/>
        </p:xfrm>
        <a:graphic>
          <a:graphicData uri="http://schemas.openxmlformats.org/drawingml/2006/table">
            <a:tbl>
              <a:tblPr/>
              <a:tblGrid>
                <a:gridCol w="1131840"/>
                <a:gridCol w="2244600"/>
                <a:gridCol w="1668600"/>
                <a:gridCol w="2352600"/>
                <a:gridCol w="1305000"/>
              </a:tblGrid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ies / Operato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/ Wh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5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ila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take 3k in December, possibly 2k in Janua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nt setup is not fi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must create varia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Swansse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iw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 discussing with operat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 samples CW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feedback y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S.K. Ch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ma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ordered 1k, no information if further quantities are to expe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is customer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feedback regarding volumes expected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Wolfgang Beuschlein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0360" indent="-90360">
                        <a:lnSpc>
                          <a:spcPct val="100000"/>
                        </a:lnSpc>
                        <a:spcBef>
                          <a:spcPts val="814"/>
                        </a:spcBef>
                        <a:buClr>
                          <a:srgbClr val="000000"/>
                        </a:buClr>
                        <a:buFont typeface="Arial"/>
                        <a:buAutoNum type="roman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önnerhed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0360" indent="-9036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90360" indent="-9036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tel, Sloven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lled 5k order due to timeline, new try in January plann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Petra Ullman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Palandök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kcell, Turke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interest from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s sent, No feedback available y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Selda Yar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gmar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a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reported interest, will receive new samples in Novemb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receive new samples in CW 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, potential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Jac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oty Status II</a:t>
            </a: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004-11-2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51000" y="1398600"/>
          <a:ext cx="8356320" cy="4281480"/>
        </p:xfrm>
        <a:graphic>
          <a:graphicData uri="http://schemas.openxmlformats.org/drawingml/2006/table">
            <a:tbl>
              <a:tblPr/>
              <a:tblGrid>
                <a:gridCol w="1122120"/>
                <a:gridCol w="2187720"/>
                <a:gridCol w="1971720"/>
                <a:gridCol w="1912680"/>
                <a:gridCol w="11620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ies / Operato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/ Wh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com, Isra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interest from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s sent, No feedback available y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Lior ben Am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gmar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huania / Lettla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interest from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Dietmar Ler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sell Emoty online shop newsletter in 12/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to sell Emoty online pend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: Thibaud Nol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Hor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ug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d interest before this fall, no news in the last month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if interest exis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status / need for suppor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 contact in count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Palandök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11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31280" y="353880"/>
            <a:ext cx="72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G65 – Push and Talk (PaT)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89000" y="1303200"/>
          <a:ext cx="8623080" cy="5151600"/>
        </p:xfrm>
        <a:graphic>
          <a:graphicData uri="http://schemas.openxmlformats.org/drawingml/2006/table">
            <a:tbl>
              <a:tblPr/>
              <a:tblGrid>
                <a:gridCol w="1218960"/>
                <a:gridCol w="928800"/>
                <a:gridCol w="914400"/>
                <a:gridCol w="885960"/>
                <a:gridCol w="914400"/>
                <a:gridCol w="942840"/>
                <a:gridCol w="987480"/>
                <a:gridCol w="985680"/>
                <a:gridCol w="844560"/>
              </a:tblGrid>
              <a:tr h="37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or/</a:t>
                      </a:r>
                      <a:br>
                        <a:rPr sz="1100"/>
                      </a:b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</a:t>
                      </a:r>
                      <a:br>
                        <a:rPr sz="1100"/>
                      </a:b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al avail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/ Wh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/ Wh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com Isra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N35/37 in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iting for detailed feedb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bug re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varro-Velasco (03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Q: NA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N37 in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Waiting for bug re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G08 not yet avail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Get bug re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Improve availability of LG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Navarro (10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Aschmo-neit (10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 Per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N35 to be tes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test devices necess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ices to be hand-carried to Peru: clarify 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varro-Velasco (02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mbia mov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s will start earliest in Jan 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cking issues uncl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y situation with local 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varro-Velasco (03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cel Mex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ing depending on CX70 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CX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X70: waiting for results from Motorola PoC I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lear timeline for IOT avail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in touch with Mexico and clarify timel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varro-Velasco (06.12.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1424160" y="1305000"/>
            <a:ext cx="341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70/CT70/C71/CT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90960" y="133020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X70/CXT70/CX71/CXT71/M65/SK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71400" y="2936880"/>
            <a:ext cx="539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ure 75 Gen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1316160" y="-82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justments for SG2 Platform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Gen75: Minos, Virgo, Taurus, Hydr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96920" y="1371600"/>
          <a:ext cx="8723160" cy="425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1371600"/>
                    <a:ext cx="872316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93800" y="150804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ong dependency on external deliver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52600" y="2546280"/>
            <a:ext cx="5757840" cy="25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0" tIns="180000" bIns="180000" anchor="ctr">
            <a:noAutofit/>
          </a:bodyPr>
          <a:p>
            <a:pPr marL="457200" indent="-457200">
              <a:lnSpc>
                <a:spcPts val="1599"/>
              </a:lnSpc>
              <a:spcBef>
                <a:spcPts val="1599"/>
              </a:spcBef>
              <a:tabLst>
                <a:tab algn="l" pos="0"/>
                <a:tab algn="l" pos="447840"/>
                <a:tab algn="r" pos="125424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400" spc="-1" strike="noStrike">
                <a:solidFill>
                  <a:srgbClr val="002b5d"/>
                </a:solidFill>
                <a:latin typeface="Arial"/>
              </a:rPr>
              <a:t>OpenWave 7.2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599"/>
              </a:lnSpc>
              <a:spcBef>
                <a:spcPts val="2001"/>
              </a:spcBef>
              <a:tabLst>
                <a:tab algn="l" pos="0"/>
                <a:tab algn="l" pos="447840"/>
                <a:tab algn="r" pos="125424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400" spc="-1" strike="noStrike">
                <a:solidFill>
                  <a:srgbClr val="002b5d"/>
                </a:solidFill>
                <a:latin typeface="Arial"/>
              </a:rPr>
              <a:t>Early stabilization of Vodafone specs (esp. for LiveCas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599"/>
              </a:lnSpc>
              <a:spcBef>
                <a:spcPts val="2001"/>
              </a:spcBef>
              <a:tabLst>
                <a:tab algn="l" pos="0"/>
                <a:tab algn="l" pos="447840"/>
                <a:tab algn="r" pos="125424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400" spc="-1" strike="noStrike">
                <a:solidFill>
                  <a:srgbClr val="002b5d"/>
                </a:solidFill>
                <a:latin typeface="Arial"/>
              </a:rPr>
              <a:t>Packet Video Player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599"/>
              </a:lnSpc>
              <a:spcBef>
                <a:spcPts val="2001"/>
              </a:spcBef>
              <a:tabLst>
                <a:tab algn="l" pos="0"/>
                <a:tab algn="l" pos="447840"/>
                <a:tab algn="r" pos="125424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400" spc="-1" strike="noStrike">
                <a:solidFill>
                  <a:srgbClr val="002b5d"/>
                </a:solidFill>
                <a:latin typeface="Arial"/>
              </a:rPr>
              <a:t>ATI chipset and Firm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599"/>
              </a:lnSpc>
              <a:spcBef>
                <a:spcPts val="2001"/>
              </a:spcBef>
              <a:tabLst>
                <a:tab algn="l" pos="0"/>
                <a:tab algn="l" pos="447840"/>
                <a:tab algn="r" pos="1254240"/>
                <a:tab algn="l" pos="2403360"/>
                <a:tab algn="l" pos="3605040"/>
                <a:tab algn="l" pos="4807080"/>
                <a:tab algn="l" pos="6008760"/>
                <a:tab algn="l" pos="7210440"/>
                <a:tab algn="l" pos="8412120"/>
                <a:tab algn="l" pos="9613800"/>
                <a:tab algn="l" pos="10815480"/>
              </a:tabLst>
            </a:pPr>
            <a:r>
              <a:rPr b="1" lang="en-US" sz="1400" spc="-1" strike="noStrike">
                <a:solidFill>
                  <a:srgbClr val="002b5d"/>
                </a:solidFill>
                <a:latin typeface="Arial"/>
              </a:rPr>
              <a:t>Comneon deliveries for BT and P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95480" y="2546280"/>
            <a:ext cx="1170000" cy="251928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2519280"/>
              <a:gd name="textAreaBottom" fmla="*/ 251964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0" bIns="0" anchor="ctr">
            <a:noAutofit/>
          </a:bodyPr>
          <a:p>
            <a:pPr marL="457200" indent="-457200">
              <a:lnSpc>
                <a:spcPts val="1599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b5d"/>
                </a:solidFill>
                <a:latin typeface="Arial"/>
              </a:rPr>
              <a:t>R&amp;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599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b5d"/>
                </a:solidFill>
                <a:latin typeface="Arial"/>
              </a:rPr>
              <a:t>depends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680" y="322200"/>
            <a:ext cx="69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75: SG2 Software Platform Sit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980400" y="5734080"/>
            <a:ext cx="216360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7160" y="-63360"/>
            <a:ext cx="73501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SG2 Release1 SWC components and Platform milest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310520" y="1341360"/>
            <a:ext cx="0" cy="5218920"/>
            <a:chOff x="7310520" y="1341360"/>
            <a:chExt cx="0" cy="5218920"/>
          </a:xfrm>
        </p:grpSpPr>
        <p:sp>
          <p:nvSpPr>
            <p:cNvPr id="142" name=""/>
            <p:cNvSpPr/>
            <p:nvPr/>
          </p:nvSpPr>
          <p:spPr>
            <a:xfrm>
              <a:off x="7310520" y="15976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10520" y="13413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046320" y="1855800"/>
            <a:ext cx="20016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9240" y="3321000"/>
            <a:ext cx="2093760" cy="14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IDC: C3 = 29.04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09000" y="1852560"/>
            <a:ext cx="19836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9240" y="4219560"/>
            <a:ext cx="2093760" cy="17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va: C3 = 20.05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31000" y="1662120"/>
            <a:ext cx="103032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 M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9240" y="4659480"/>
            <a:ext cx="2093760" cy="18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WV Browser: C3 = 30.05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6800" y="3782880"/>
            <a:ext cx="199800" cy="216000"/>
          </a:xfrm>
          <a:prstGeom prst="flowChartDecision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27160" y="1328760"/>
            <a:ext cx="0" cy="5218920"/>
            <a:chOff x="227160" y="1328760"/>
            <a:chExt cx="0" cy="5218920"/>
          </a:xfrm>
        </p:grpSpPr>
        <p:sp>
          <p:nvSpPr>
            <p:cNvPr id="152" name=""/>
            <p:cNvSpPr/>
            <p:nvPr/>
          </p:nvSpPr>
          <p:spPr>
            <a:xfrm>
              <a:off x="2271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71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81080" y="1328760"/>
            <a:ext cx="288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33440" y="1328760"/>
            <a:ext cx="0" cy="5218920"/>
            <a:chOff x="433440" y="1328760"/>
            <a:chExt cx="0" cy="5218920"/>
          </a:xfrm>
        </p:grpSpPr>
        <p:sp>
          <p:nvSpPr>
            <p:cNvPr id="156" name=""/>
            <p:cNvSpPr/>
            <p:nvPr/>
          </p:nvSpPr>
          <p:spPr>
            <a:xfrm>
              <a:off x="43344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344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42960" y="1328760"/>
            <a:ext cx="0" cy="5218920"/>
            <a:chOff x="642960" y="1328760"/>
            <a:chExt cx="0" cy="5218920"/>
          </a:xfrm>
        </p:grpSpPr>
        <p:sp>
          <p:nvSpPr>
            <p:cNvPr id="159" name=""/>
            <p:cNvSpPr/>
            <p:nvPr/>
          </p:nvSpPr>
          <p:spPr>
            <a:xfrm>
              <a:off x="6429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29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851040" y="1328760"/>
            <a:ext cx="0" cy="5218920"/>
            <a:chOff x="851040" y="1328760"/>
            <a:chExt cx="0" cy="5218920"/>
          </a:xfrm>
        </p:grpSpPr>
        <p:sp>
          <p:nvSpPr>
            <p:cNvPr id="162" name=""/>
            <p:cNvSpPr/>
            <p:nvPr/>
          </p:nvSpPr>
          <p:spPr>
            <a:xfrm>
              <a:off x="85104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5104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060560" y="1328760"/>
            <a:ext cx="0" cy="5218920"/>
            <a:chOff x="1060560" y="1328760"/>
            <a:chExt cx="0" cy="5218920"/>
          </a:xfrm>
        </p:grpSpPr>
        <p:sp>
          <p:nvSpPr>
            <p:cNvPr id="165" name=""/>
            <p:cNvSpPr/>
            <p:nvPr/>
          </p:nvSpPr>
          <p:spPr>
            <a:xfrm>
              <a:off x="10605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605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268280" y="1328760"/>
            <a:ext cx="0" cy="5218920"/>
            <a:chOff x="1268280" y="1328760"/>
            <a:chExt cx="0" cy="5218920"/>
          </a:xfrm>
        </p:grpSpPr>
        <p:sp>
          <p:nvSpPr>
            <p:cNvPr id="168" name=""/>
            <p:cNvSpPr/>
            <p:nvPr/>
          </p:nvSpPr>
          <p:spPr>
            <a:xfrm>
              <a:off x="12682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682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476360" y="1328760"/>
            <a:ext cx="0" cy="5218920"/>
            <a:chOff x="1476360" y="1328760"/>
            <a:chExt cx="0" cy="5218920"/>
          </a:xfrm>
        </p:grpSpPr>
        <p:sp>
          <p:nvSpPr>
            <p:cNvPr id="171" name=""/>
            <p:cNvSpPr/>
            <p:nvPr/>
          </p:nvSpPr>
          <p:spPr>
            <a:xfrm>
              <a:off x="14763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763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685880" y="1328760"/>
            <a:ext cx="0" cy="5218920"/>
            <a:chOff x="1685880" y="1328760"/>
            <a:chExt cx="0" cy="5218920"/>
          </a:xfrm>
        </p:grpSpPr>
        <p:sp>
          <p:nvSpPr>
            <p:cNvPr id="174" name=""/>
            <p:cNvSpPr/>
            <p:nvPr/>
          </p:nvSpPr>
          <p:spPr>
            <a:xfrm>
              <a:off x="16858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858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893960" y="1328760"/>
            <a:ext cx="0" cy="5218920"/>
            <a:chOff x="1893960" y="1328760"/>
            <a:chExt cx="0" cy="5218920"/>
          </a:xfrm>
        </p:grpSpPr>
        <p:sp>
          <p:nvSpPr>
            <p:cNvPr id="177" name=""/>
            <p:cNvSpPr/>
            <p:nvPr/>
          </p:nvSpPr>
          <p:spPr>
            <a:xfrm>
              <a:off x="18939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939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103480" y="1328760"/>
            <a:ext cx="0" cy="5218920"/>
            <a:chOff x="2103480" y="1328760"/>
            <a:chExt cx="0" cy="5218920"/>
          </a:xfrm>
        </p:grpSpPr>
        <p:sp>
          <p:nvSpPr>
            <p:cNvPr id="180" name=""/>
            <p:cNvSpPr/>
            <p:nvPr/>
          </p:nvSpPr>
          <p:spPr>
            <a:xfrm>
              <a:off x="21034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034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311560" y="1328760"/>
            <a:ext cx="0" cy="5218920"/>
            <a:chOff x="2311560" y="1328760"/>
            <a:chExt cx="0" cy="5218920"/>
          </a:xfrm>
        </p:grpSpPr>
        <p:sp>
          <p:nvSpPr>
            <p:cNvPr id="183" name=""/>
            <p:cNvSpPr/>
            <p:nvPr/>
          </p:nvSpPr>
          <p:spPr>
            <a:xfrm>
              <a:off x="23115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115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519280" y="1328760"/>
            <a:ext cx="0" cy="5218920"/>
            <a:chOff x="2519280" y="1328760"/>
            <a:chExt cx="0" cy="5218920"/>
          </a:xfrm>
        </p:grpSpPr>
        <p:sp>
          <p:nvSpPr>
            <p:cNvPr id="186" name=""/>
            <p:cNvSpPr/>
            <p:nvPr/>
          </p:nvSpPr>
          <p:spPr>
            <a:xfrm>
              <a:off x="25192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192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727360" y="1328760"/>
            <a:ext cx="0" cy="5218920"/>
            <a:chOff x="2727360" y="1328760"/>
            <a:chExt cx="0" cy="5218920"/>
          </a:xfrm>
        </p:grpSpPr>
        <p:sp>
          <p:nvSpPr>
            <p:cNvPr id="189" name=""/>
            <p:cNvSpPr/>
            <p:nvPr/>
          </p:nvSpPr>
          <p:spPr>
            <a:xfrm>
              <a:off x="27273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273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936880" y="1328760"/>
            <a:ext cx="0" cy="5218920"/>
            <a:chOff x="2936880" y="1328760"/>
            <a:chExt cx="0" cy="5218920"/>
          </a:xfrm>
        </p:grpSpPr>
        <p:sp>
          <p:nvSpPr>
            <p:cNvPr id="192" name=""/>
            <p:cNvSpPr/>
            <p:nvPr/>
          </p:nvSpPr>
          <p:spPr>
            <a:xfrm>
              <a:off x="29368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368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144960" y="1328760"/>
            <a:ext cx="0" cy="5218920"/>
            <a:chOff x="3144960" y="1328760"/>
            <a:chExt cx="0" cy="5218920"/>
          </a:xfrm>
        </p:grpSpPr>
        <p:sp>
          <p:nvSpPr>
            <p:cNvPr id="195" name=""/>
            <p:cNvSpPr/>
            <p:nvPr/>
          </p:nvSpPr>
          <p:spPr>
            <a:xfrm>
              <a:off x="31449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449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352680" y="1328760"/>
            <a:ext cx="0" cy="5218920"/>
            <a:chOff x="3352680" y="1328760"/>
            <a:chExt cx="0" cy="5218920"/>
          </a:xfrm>
        </p:grpSpPr>
        <p:sp>
          <p:nvSpPr>
            <p:cNvPr id="198" name=""/>
            <p:cNvSpPr/>
            <p:nvPr/>
          </p:nvSpPr>
          <p:spPr>
            <a:xfrm>
              <a:off x="33526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526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562200" y="1328760"/>
            <a:ext cx="0" cy="5218920"/>
            <a:chOff x="3562200" y="1328760"/>
            <a:chExt cx="0" cy="5218920"/>
          </a:xfrm>
        </p:grpSpPr>
        <p:sp>
          <p:nvSpPr>
            <p:cNvPr id="201" name=""/>
            <p:cNvSpPr/>
            <p:nvPr/>
          </p:nvSpPr>
          <p:spPr>
            <a:xfrm>
              <a:off x="35622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622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90600" y="1328760"/>
            <a:ext cx="288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8320" y="1328760"/>
            <a:ext cx="2890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8200" y="1328760"/>
            <a:ext cx="288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15920" y="1328760"/>
            <a:ext cx="2890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240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335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416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493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5884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669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750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845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92600" y="1328760"/>
            <a:ext cx="290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003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0984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179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72080" y="1330200"/>
            <a:ext cx="0" cy="5219280"/>
            <a:chOff x="3772080" y="1330200"/>
            <a:chExt cx="0" cy="5219280"/>
          </a:xfrm>
        </p:grpSpPr>
        <p:sp>
          <p:nvSpPr>
            <p:cNvPr id="220" name=""/>
            <p:cNvSpPr/>
            <p:nvPr/>
          </p:nvSpPr>
          <p:spPr>
            <a:xfrm>
              <a:off x="377208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7208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79800" y="1330200"/>
            <a:ext cx="0" cy="5219280"/>
            <a:chOff x="3979800" y="1330200"/>
            <a:chExt cx="0" cy="5219280"/>
          </a:xfrm>
        </p:grpSpPr>
        <p:sp>
          <p:nvSpPr>
            <p:cNvPr id="223" name=""/>
            <p:cNvSpPr/>
            <p:nvPr/>
          </p:nvSpPr>
          <p:spPr>
            <a:xfrm>
              <a:off x="397980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7980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187880" y="1330200"/>
            <a:ext cx="0" cy="5219280"/>
            <a:chOff x="4187880" y="1330200"/>
            <a:chExt cx="0" cy="5219280"/>
          </a:xfrm>
        </p:grpSpPr>
        <p:sp>
          <p:nvSpPr>
            <p:cNvPr id="226" name=""/>
            <p:cNvSpPr/>
            <p:nvPr/>
          </p:nvSpPr>
          <p:spPr>
            <a:xfrm>
              <a:off x="418788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8788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397400" y="1330200"/>
            <a:ext cx="0" cy="5219280"/>
            <a:chOff x="4397400" y="1330200"/>
            <a:chExt cx="0" cy="5219280"/>
          </a:xfrm>
        </p:grpSpPr>
        <p:sp>
          <p:nvSpPr>
            <p:cNvPr id="229" name=""/>
            <p:cNvSpPr/>
            <p:nvPr/>
          </p:nvSpPr>
          <p:spPr>
            <a:xfrm>
              <a:off x="439740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9740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605480" y="1330200"/>
            <a:ext cx="0" cy="5219280"/>
            <a:chOff x="4605480" y="1330200"/>
            <a:chExt cx="0" cy="5219280"/>
          </a:xfrm>
        </p:grpSpPr>
        <p:sp>
          <p:nvSpPr>
            <p:cNvPr id="232" name=""/>
            <p:cNvSpPr/>
            <p:nvPr/>
          </p:nvSpPr>
          <p:spPr>
            <a:xfrm>
              <a:off x="460548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0548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372744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3552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4504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5276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599000" y="1328760"/>
            <a:ext cx="0" cy="5218920"/>
            <a:chOff x="4599000" y="1328760"/>
            <a:chExt cx="0" cy="5218920"/>
          </a:xfrm>
        </p:grpSpPr>
        <p:sp>
          <p:nvSpPr>
            <p:cNvPr id="239" name=""/>
            <p:cNvSpPr/>
            <p:nvPr/>
          </p:nvSpPr>
          <p:spPr>
            <a:xfrm>
              <a:off x="45990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990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455148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805280" y="1328760"/>
            <a:ext cx="0" cy="5218920"/>
            <a:chOff x="4805280" y="1328760"/>
            <a:chExt cx="0" cy="5218920"/>
          </a:xfrm>
        </p:grpSpPr>
        <p:sp>
          <p:nvSpPr>
            <p:cNvPr id="243" name=""/>
            <p:cNvSpPr/>
            <p:nvPr/>
          </p:nvSpPr>
          <p:spPr>
            <a:xfrm>
              <a:off x="48052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052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014800" y="1328760"/>
            <a:ext cx="0" cy="5218920"/>
            <a:chOff x="5014800" y="1328760"/>
            <a:chExt cx="0" cy="5218920"/>
          </a:xfrm>
        </p:grpSpPr>
        <p:sp>
          <p:nvSpPr>
            <p:cNvPr id="246" name=""/>
            <p:cNvSpPr/>
            <p:nvPr/>
          </p:nvSpPr>
          <p:spPr>
            <a:xfrm>
              <a:off x="50148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148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222880" y="1328760"/>
            <a:ext cx="0" cy="5218920"/>
            <a:chOff x="5222880" y="1328760"/>
            <a:chExt cx="0" cy="5218920"/>
          </a:xfrm>
        </p:grpSpPr>
        <p:sp>
          <p:nvSpPr>
            <p:cNvPr id="249" name=""/>
            <p:cNvSpPr/>
            <p:nvPr/>
          </p:nvSpPr>
          <p:spPr>
            <a:xfrm>
              <a:off x="52228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228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432400" y="1328760"/>
            <a:ext cx="0" cy="5218920"/>
            <a:chOff x="5432400" y="1328760"/>
            <a:chExt cx="0" cy="5218920"/>
          </a:xfrm>
        </p:grpSpPr>
        <p:sp>
          <p:nvSpPr>
            <p:cNvPr id="252" name=""/>
            <p:cNvSpPr/>
            <p:nvPr/>
          </p:nvSpPr>
          <p:spPr>
            <a:xfrm>
              <a:off x="54324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324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640480" y="1328760"/>
            <a:ext cx="0" cy="5218920"/>
            <a:chOff x="5640480" y="1328760"/>
            <a:chExt cx="0" cy="5218920"/>
          </a:xfrm>
        </p:grpSpPr>
        <p:sp>
          <p:nvSpPr>
            <p:cNvPr id="255" name=""/>
            <p:cNvSpPr/>
            <p:nvPr/>
          </p:nvSpPr>
          <p:spPr>
            <a:xfrm>
              <a:off x="56404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404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848200" y="1328760"/>
            <a:ext cx="0" cy="5218920"/>
            <a:chOff x="5848200" y="1328760"/>
            <a:chExt cx="0" cy="5218920"/>
          </a:xfrm>
        </p:grpSpPr>
        <p:sp>
          <p:nvSpPr>
            <p:cNvPr id="258" name=""/>
            <p:cNvSpPr/>
            <p:nvPr/>
          </p:nvSpPr>
          <p:spPr>
            <a:xfrm>
              <a:off x="58482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482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056280" y="1328760"/>
            <a:ext cx="0" cy="5218920"/>
            <a:chOff x="6056280" y="1328760"/>
            <a:chExt cx="0" cy="5218920"/>
          </a:xfrm>
        </p:grpSpPr>
        <p:sp>
          <p:nvSpPr>
            <p:cNvPr id="261" name=""/>
            <p:cNvSpPr/>
            <p:nvPr/>
          </p:nvSpPr>
          <p:spPr>
            <a:xfrm>
              <a:off x="60562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562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264360" y="1328760"/>
            <a:ext cx="0" cy="5218920"/>
            <a:chOff x="6264360" y="1328760"/>
            <a:chExt cx="0" cy="5218920"/>
          </a:xfrm>
        </p:grpSpPr>
        <p:sp>
          <p:nvSpPr>
            <p:cNvPr id="264" name=""/>
            <p:cNvSpPr/>
            <p:nvPr/>
          </p:nvSpPr>
          <p:spPr>
            <a:xfrm>
              <a:off x="62643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643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473880" y="1328760"/>
            <a:ext cx="0" cy="5218920"/>
            <a:chOff x="6473880" y="1328760"/>
            <a:chExt cx="0" cy="5218920"/>
          </a:xfrm>
        </p:grpSpPr>
        <p:sp>
          <p:nvSpPr>
            <p:cNvPr id="267" name=""/>
            <p:cNvSpPr/>
            <p:nvPr/>
          </p:nvSpPr>
          <p:spPr>
            <a:xfrm>
              <a:off x="64738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738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681960" y="1328760"/>
            <a:ext cx="0" cy="5218920"/>
            <a:chOff x="6681960" y="1328760"/>
            <a:chExt cx="0" cy="5218920"/>
          </a:xfrm>
        </p:grpSpPr>
        <p:sp>
          <p:nvSpPr>
            <p:cNvPr id="270" name=""/>
            <p:cNvSpPr/>
            <p:nvPr/>
          </p:nvSpPr>
          <p:spPr>
            <a:xfrm>
              <a:off x="66819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6819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889680" y="1328760"/>
            <a:ext cx="0" cy="5218920"/>
            <a:chOff x="6889680" y="1328760"/>
            <a:chExt cx="0" cy="5218920"/>
          </a:xfrm>
        </p:grpSpPr>
        <p:sp>
          <p:nvSpPr>
            <p:cNvPr id="273" name=""/>
            <p:cNvSpPr/>
            <p:nvPr/>
          </p:nvSpPr>
          <p:spPr>
            <a:xfrm>
              <a:off x="68896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896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097760" y="1328760"/>
            <a:ext cx="0" cy="5218920"/>
            <a:chOff x="7097760" y="1328760"/>
            <a:chExt cx="0" cy="5218920"/>
          </a:xfrm>
        </p:grpSpPr>
        <p:sp>
          <p:nvSpPr>
            <p:cNvPr id="276" name=""/>
            <p:cNvSpPr/>
            <p:nvPr/>
          </p:nvSpPr>
          <p:spPr>
            <a:xfrm>
              <a:off x="70977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977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7307280" y="1328760"/>
            <a:ext cx="0" cy="5218920"/>
            <a:chOff x="7307280" y="1328760"/>
            <a:chExt cx="0" cy="5218920"/>
          </a:xfrm>
        </p:grpSpPr>
        <p:sp>
          <p:nvSpPr>
            <p:cNvPr id="279" name=""/>
            <p:cNvSpPr/>
            <p:nvPr/>
          </p:nvSpPr>
          <p:spPr>
            <a:xfrm>
              <a:off x="730728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30728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515360" y="1328760"/>
            <a:ext cx="0" cy="5218920"/>
            <a:chOff x="7515360" y="1328760"/>
            <a:chExt cx="0" cy="5218920"/>
          </a:xfrm>
        </p:grpSpPr>
        <p:sp>
          <p:nvSpPr>
            <p:cNvPr id="282" name=""/>
            <p:cNvSpPr/>
            <p:nvPr/>
          </p:nvSpPr>
          <p:spPr>
            <a:xfrm>
              <a:off x="751536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1536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729560" y="1376280"/>
            <a:ext cx="0" cy="5218920"/>
            <a:chOff x="7729560" y="1376280"/>
            <a:chExt cx="0" cy="5218920"/>
          </a:xfrm>
        </p:grpSpPr>
        <p:sp>
          <p:nvSpPr>
            <p:cNvPr id="285" name=""/>
            <p:cNvSpPr/>
            <p:nvPr/>
          </p:nvSpPr>
          <p:spPr>
            <a:xfrm>
              <a:off x="7729560" y="163260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729560" y="137628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934400" y="1328760"/>
            <a:ext cx="0" cy="5218920"/>
            <a:chOff x="7934400" y="1328760"/>
            <a:chExt cx="0" cy="5218920"/>
          </a:xfrm>
        </p:grpSpPr>
        <p:sp>
          <p:nvSpPr>
            <p:cNvPr id="288" name=""/>
            <p:cNvSpPr/>
            <p:nvPr/>
          </p:nvSpPr>
          <p:spPr>
            <a:xfrm>
              <a:off x="7934400" y="1585080"/>
              <a:ext cx="0" cy="496260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34400" y="132876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7610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687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78600" y="1328760"/>
            <a:ext cx="2901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863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944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039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1200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197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2924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638760" y="1328760"/>
            <a:ext cx="2890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46840" y="1328760"/>
            <a:ext cx="2890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56360" y="1328760"/>
            <a:ext cx="2890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264440" y="1328760"/>
            <a:ext cx="288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47252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8204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889760" y="132876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8143920" y="1330200"/>
            <a:ext cx="0" cy="5219280"/>
            <a:chOff x="8143920" y="1330200"/>
            <a:chExt cx="0" cy="5219280"/>
          </a:xfrm>
        </p:grpSpPr>
        <p:sp>
          <p:nvSpPr>
            <p:cNvPr id="307" name=""/>
            <p:cNvSpPr/>
            <p:nvPr/>
          </p:nvSpPr>
          <p:spPr>
            <a:xfrm>
              <a:off x="814392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14392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8352000" y="1330200"/>
            <a:ext cx="0" cy="5219280"/>
            <a:chOff x="8352000" y="1330200"/>
            <a:chExt cx="0" cy="5219280"/>
          </a:xfrm>
        </p:grpSpPr>
        <p:sp>
          <p:nvSpPr>
            <p:cNvPr id="310" name=""/>
            <p:cNvSpPr/>
            <p:nvPr/>
          </p:nvSpPr>
          <p:spPr>
            <a:xfrm>
              <a:off x="835200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5200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8559720" y="1330200"/>
            <a:ext cx="0" cy="5219280"/>
            <a:chOff x="8559720" y="1330200"/>
            <a:chExt cx="0" cy="5219280"/>
          </a:xfrm>
        </p:grpSpPr>
        <p:sp>
          <p:nvSpPr>
            <p:cNvPr id="313" name=""/>
            <p:cNvSpPr/>
            <p:nvPr/>
          </p:nvSpPr>
          <p:spPr>
            <a:xfrm>
              <a:off x="855972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55972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8769240" y="1330200"/>
            <a:ext cx="0" cy="5219280"/>
            <a:chOff x="8769240" y="1330200"/>
            <a:chExt cx="0" cy="5219280"/>
          </a:xfrm>
        </p:grpSpPr>
        <p:sp>
          <p:nvSpPr>
            <p:cNvPr id="316" name=""/>
            <p:cNvSpPr/>
            <p:nvPr/>
          </p:nvSpPr>
          <p:spPr>
            <a:xfrm>
              <a:off x="876924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76924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8977320" y="1330200"/>
            <a:ext cx="0" cy="5219280"/>
            <a:chOff x="8977320" y="1330200"/>
            <a:chExt cx="0" cy="5219280"/>
          </a:xfrm>
        </p:grpSpPr>
        <p:sp>
          <p:nvSpPr>
            <p:cNvPr id="319" name=""/>
            <p:cNvSpPr/>
            <p:nvPr/>
          </p:nvSpPr>
          <p:spPr>
            <a:xfrm>
              <a:off x="8977320" y="1586520"/>
              <a:ext cx="0" cy="4962960"/>
            </a:xfrm>
            <a:prstGeom prst="line">
              <a:avLst/>
            </a:prstGeom>
            <a:ln w="3960">
              <a:solidFill>
                <a:srgbClr val="62646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977320" y="1330200"/>
              <a:ext cx="0" cy="259200"/>
            </a:xfrm>
            <a:prstGeom prst="line">
              <a:avLst/>
            </a:prstGeom>
            <a:ln w="3960">
              <a:solidFill>
                <a:srgbClr val="6264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809928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0736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51688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724960" y="1330200"/>
            <a:ext cx="2905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429680" y="2298600"/>
            <a:ext cx="19980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829640" y="2133720"/>
            <a:ext cx="691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S Taur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029440" y="2287440"/>
            <a:ext cx="19872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9480" y="2673360"/>
            <a:ext cx="20016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62880" y="2492280"/>
            <a:ext cx="631800" cy="1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S Virg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97760" y="2133720"/>
            <a:ext cx="798480" cy="13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S Hyd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34200" y="1700280"/>
            <a:ext cx="6904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586560" y="1854360"/>
            <a:ext cx="200160" cy="21564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83080" y="1701720"/>
            <a:ext cx="69048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02320" y="1855800"/>
            <a:ext cx="199800" cy="216000"/>
          </a:xfrm>
          <a:prstGeom prst="flowChartDecision">
            <a:avLst/>
          </a:prstGeom>
          <a:solidFill>
            <a:srgbClr val="afc2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44720" y="1687680"/>
            <a:ext cx="6904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3 target for all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76520" y="2492280"/>
            <a:ext cx="798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3-S25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3142800" y="2133360"/>
            <a:ext cx="46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173480" y="2133720"/>
            <a:ext cx="56376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03880" y="2529000"/>
            <a:ext cx="798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25 – S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9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4772160" y="2133360"/>
            <a:ext cx="4651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134040" y="2168280"/>
            <a:ext cx="49860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44680" y="1881360"/>
            <a:ext cx="692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9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1200" y="3537000"/>
            <a:ext cx="2071800" cy="179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CNCT: C3 = 22.04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9240" y="3824280"/>
            <a:ext cx="1893600" cy="144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MPS: C3 = 31.03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9240" y="5089680"/>
            <a:ext cx="2093760" cy="17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WV Messaging: C3 = 07.06.0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33560" y="3517920"/>
            <a:ext cx="200160" cy="216000"/>
          </a:xfrm>
          <a:prstGeom prst="flowChartDecision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51000" y="3284640"/>
            <a:ext cx="198720" cy="215640"/>
          </a:xfrm>
          <a:prstGeom prst="flowChartDecision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308400" y="3537000"/>
            <a:ext cx="692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3 mile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66960" y="4219560"/>
            <a:ext cx="198720" cy="21600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087800" y="4621320"/>
            <a:ext cx="200160" cy="215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02280" y="5056200"/>
            <a:ext cx="199800" cy="21600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343320" y="4329000"/>
            <a:ext cx="3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86280" y="4221000"/>
            <a:ext cx="692280" cy="2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D actions on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343320" y="472428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59520" y="4653000"/>
            <a:ext cx="69192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WV/Siemens Ac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3343320" y="5157360"/>
            <a:ext cx="86184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59520" y="5049720"/>
            <a:ext cx="69192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WV/Siemens Ac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429680" y="1844640"/>
            <a:ext cx="691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.09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13800" cy="12272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2340000" y="2492280"/>
            <a:ext cx="865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3-S25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1835280" y="206028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3059280" y="2133720"/>
            <a:ext cx="10810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643280" y="2492280"/>
            <a:ext cx="865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25 – S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9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4211640" y="213336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364000" y="2133720"/>
            <a:ext cx="10810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4360" y="3573360"/>
            <a:ext cx="3240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3 Target date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9.04.0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25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4.06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3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6.08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S (Minos)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5.09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S (Hydra)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2.09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S (Virgo)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1.1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S (Taurus)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5.1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9280" y="40464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6012000" y="2349360"/>
            <a:ext cx="2879640" cy="42562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 flipV="1">
            <a:off x="3132000" y="549360"/>
            <a:ext cx="21600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2916360" y="549360"/>
            <a:ext cx="21564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700360" y="549360"/>
            <a:ext cx="21600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1835280" y="549360"/>
            <a:ext cx="215640" cy="287280"/>
          </a:xfrm>
          <a:prstGeom prst="line">
            <a:avLst/>
          </a:prstGeom>
          <a:ln w="57240">
            <a:solidFill>
              <a:srgbClr val="9e1d3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32000" y="260280"/>
            <a:ext cx="136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3 Target date 29.0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56000" y="26028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ate C3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13800" cy="12272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2340000" y="2492280"/>
            <a:ext cx="865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3-S25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835280" y="206028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3059280" y="2133720"/>
            <a:ext cx="10810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43280" y="2492280"/>
            <a:ext cx="865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25 – S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9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4211640" y="213336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364000" y="2133720"/>
            <a:ext cx="10810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79280" y="40464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132000" y="549360"/>
            <a:ext cx="21600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916360" y="549360"/>
            <a:ext cx="21564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2700360" y="549360"/>
            <a:ext cx="216000" cy="28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1835280" y="549360"/>
            <a:ext cx="215640" cy="287280"/>
          </a:xfrm>
          <a:prstGeom prst="line">
            <a:avLst/>
          </a:prstGeom>
          <a:ln w="57240">
            <a:solidFill>
              <a:srgbClr val="9e1d3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32000" y="260280"/>
            <a:ext cx="136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3 Target date 29.0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56000" y="26028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ate C3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2771640" y="3573360"/>
            <a:ext cx="2955960" cy="21258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6012000" y="2349360"/>
            <a:ext cx="2879640" cy="42562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324000" y="4149720"/>
            <a:ext cx="2286000" cy="8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03040" y="7128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Schedule SG2 Software (Primaver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9454400">
            <a:off x="2846160" y="4046400"/>
            <a:ext cx="3565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tails: see paper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31280" y="1467000"/>
            <a:ext cx="6732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 S-GOLD2 platform products (Minos, Taurus, Virgo, Hydra)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are planned in Primavera (Vintage SW Platfo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71760" y="2936880"/>
            <a:ext cx="522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use 65 Gen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1316160" y="-82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510640" y="2975040"/>
            <a:ext cx="35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5 Gen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Roadmap V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-1316160" y="-82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82674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everal options are possible to reduce resource overlo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228600" y="1109520"/>
          <a:ext cx="8318520" cy="5073840"/>
        </p:xfrm>
        <a:graphic>
          <a:graphicData uri="http://schemas.openxmlformats.org/drawingml/2006/table">
            <a:tbl>
              <a:tblPr/>
              <a:tblGrid>
                <a:gridCol w="1092240"/>
                <a:gridCol w="2349360"/>
                <a:gridCol w="1003320"/>
                <a:gridCol w="1015920"/>
                <a:gridCol w="978120"/>
                <a:gridCol w="977760"/>
                <a:gridCol w="901800"/>
              </a:tblGrid>
              <a:tr h="117036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 Generation full features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 Generation Theme Ph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com UMTS EDGE platfor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featureset of exisitng platforms (SG2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 UMTS smart ph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on innovation and defocus existing platfo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44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 NG with all features and leverage existing platforms for consumer attractiveness and minimum operator compli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92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on smartphone and UMTS as well as leveraging existing platfo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44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 on UMTS story with Qualcomm, NG theme phone (without operator compliance), leverage existing platfo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920">
                <a:tc>
                  <a:txBody>
                    <a:bodyPr lIns="36000" rIns="360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TS smartphone, NG theme phone (wo operator compliance), leverage existing platfo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90000" b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"/>
          <p:cNvSpPr/>
          <p:nvPr/>
        </p:nvSpPr>
        <p:spPr>
          <a:xfrm>
            <a:off x="6010920" y="6267600"/>
            <a:ext cx="213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 With optimised featu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204840"/>
            <a:ext cx="826272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c Options in order to close the resources ga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: balance innovation – profit –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79280" y="1052640"/>
          <a:ext cx="8766360" cy="4578120"/>
        </p:xfrm>
        <a:graphic>
          <a:graphicData uri="http://schemas.openxmlformats.org/drawingml/2006/table">
            <a:tbl>
              <a:tblPr/>
              <a:tblGrid>
                <a:gridCol w="630360"/>
                <a:gridCol w="2305080"/>
                <a:gridCol w="1006560"/>
                <a:gridCol w="1079280"/>
                <a:gridCol w="1008000"/>
                <a:gridCol w="1297080"/>
                <a:gridCol w="1440000"/>
              </a:tblGrid>
              <a:tr h="547920">
                <a:tc rowSpan="8">
                  <a:txBody>
                    <a:bodyPr lIns="0" rIns="0" tIns="0" bIns="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-Term 20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 + Int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 + S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 + S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4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 theme phone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comm, S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enario 5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 theme phone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, S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abi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 (Volum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Complia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rt phone UM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-house Entry UMT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itivenes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complia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rowSpan="4">
                  <a:txBody>
                    <a:bodyPr lIns="0" rIns="0" tIns="0" bIns="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Term 2007 and beyon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proo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e COM Synergi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TS mass market migr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sibi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"/>
          <p:cNvSpPr/>
          <p:nvPr/>
        </p:nvSpPr>
        <p:spPr>
          <a:xfrm>
            <a:off x="1116000" y="5950080"/>
            <a:ext cx="730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23960" indent="-54468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enarios 5 gives us the best balance betwee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 coverage, profitability potential and inno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5319720" y="2381400"/>
            <a:ext cx="3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265560" y="641664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000" y="202680"/>
            <a:ext cx="8750520" cy="69228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85G Hero roadmap scenario (Global Products: 16 GSM + 4 UMTS)  </a:t>
            </a:r>
            <a:br>
              <a:rPr sz="2000"/>
            </a:b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Siemens Sans"/>
              </a:rPr>
              <a:t>Target Roadmap for planning</a:t>
            </a: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 as of November 26th, 0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1120" y="1006560"/>
            <a:ext cx="8856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25520" y="6068880"/>
            <a:ext cx="8175600" cy="426960"/>
            <a:chOff x="425520" y="6068880"/>
            <a:chExt cx="8175600" cy="426960"/>
          </a:xfrm>
        </p:grpSpPr>
        <p:grpSp>
          <p:nvGrpSpPr>
            <p:cNvPr id="408" name=""/>
            <p:cNvGrpSpPr/>
            <p:nvPr/>
          </p:nvGrpSpPr>
          <p:grpSpPr>
            <a:xfrm>
              <a:off x="425520" y="6284880"/>
              <a:ext cx="8175600" cy="210960"/>
              <a:chOff x="425520" y="6284880"/>
              <a:chExt cx="8175600" cy="210960"/>
            </a:xfrm>
          </p:grpSpPr>
          <p:sp>
            <p:nvSpPr>
              <p:cNvPr id="409" name=""/>
              <p:cNvSpPr/>
              <p:nvPr/>
            </p:nvSpPr>
            <p:spPr>
              <a:xfrm>
                <a:off x="425520" y="6284880"/>
                <a:ext cx="8175600" cy="2109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850200" y="6305400"/>
                <a:ext cx="1328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F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25520" y="6068880"/>
              <a:ext cx="8170200" cy="201600"/>
              <a:chOff x="425520" y="6068880"/>
              <a:chExt cx="8170200" cy="201600"/>
            </a:xfrm>
          </p:grpSpPr>
          <p:sp>
            <p:nvSpPr>
              <p:cNvPr id="412" name=""/>
              <p:cNvSpPr/>
              <p:nvPr/>
            </p:nvSpPr>
            <p:spPr>
              <a:xfrm>
                <a:off x="42552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7140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568920" y="6068880"/>
                <a:ext cx="202680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52088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91116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9224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9798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01172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0" name=""/>
          <p:cNvGrpSpPr/>
          <p:nvPr/>
        </p:nvGrpSpPr>
        <p:grpSpPr>
          <a:xfrm>
            <a:off x="422280" y="1052640"/>
            <a:ext cx="8165880" cy="420480"/>
            <a:chOff x="422280" y="1052640"/>
            <a:chExt cx="8165880" cy="420480"/>
          </a:xfrm>
        </p:grpSpPr>
        <p:sp>
          <p:nvSpPr>
            <p:cNvPr id="421" name=""/>
            <p:cNvSpPr/>
            <p:nvPr/>
          </p:nvSpPr>
          <p:spPr>
            <a:xfrm>
              <a:off x="2467080" y="12715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559560" y="12715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2280" y="1052640"/>
              <a:ext cx="8165880" cy="210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1780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18160" y="1073160"/>
              <a:ext cx="132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FY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0092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513320" y="1271520"/>
              <a:ext cx="202536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2280" y="1271520"/>
              <a:ext cx="20257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0648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7052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45916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50072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5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5788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3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3680" y="1492200"/>
            <a:ext cx="1984320" cy="1335240"/>
          </a:xfrm>
          <a:custGeom>
            <a:avLst/>
            <a:gdLst/>
            <a:ahLst/>
            <a:rect l="l" t="t" r="r" b="b"/>
            <a:pathLst>
              <a:path w="4309" h="1859">
                <a:moveTo>
                  <a:pt x="0" y="0"/>
                </a:moveTo>
                <a:lnTo>
                  <a:pt x="4309" y="0"/>
                </a:lnTo>
                <a:lnTo>
                  <a:pt x="4309" y="1859"/>
                </a:lnTo>
                <a:lnTo>
                  <a:pt x="0" y="185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067360" y="3019320"/>
            <a:ext cx="5191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94000" y="350208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49960" y="349416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95680" y="2913120"/>
            <a:ext cx="1092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461360" y="5481720"/>
            <a:ext cx="8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915320" y="2311560"/>
            <a:ext cx="84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602560" y="310680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254720" y="3724200"/>
            <a:ext cx="860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16040" y="1563840"/>
            <a:ext cx="86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Siemens Sans"/>
              </a:rPr>
              <a:t>defined</a:t>
            </a:r>
            <a:r>
              <a:rPr b="1" i="1" lang="de-DE" sz="1000" spc="-1" strike="noStrike" u="sng">
                <a:solidFill>
                  <a:srgbClr val="000000"/>
                </a:solidFill>
                <a:uFillTx/>
                <a:latin typeface="Siemens Sans"/>
              </a:rPr>
              <a:t> in 75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552600" y="1471680"/>
            <a:ext cx="1172880" cy="497880"/>
            <a:chOff x="552600" y="1471680"/>
            <a:chExt cx="1172880" cy="497880"/>
          </a:xfrm>
        </p:grpSpPr>
        <p:sp>
          <p:nvSpPr>
            <p:cNvPr id="447" name=""/>
            <p:cNvSpPr/>
            <p:nvPr/>
          </p:nvSpPr>
          <p:spPr>
            <a:xfrm>
              <a:off x="680040" y="14716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720" y="1641240"/>
              <a:ext cx="1004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UMTS Multimedi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552600" y="1598400"/>
              <a:ext cx="109440" cy="371160"/>
              <a:chOff x="552600" y="1598400"/>
              <a:chExt cx="109440" cy="371160"/>
            </a:xfrm>
          </p:grpSpPr>
          <p:sp>
            <p:nvSpPr>
              <p:cNvPr id="450" name=""/>
              <p:cNvSpPr/>
              <p:nvPr/>
            </p:nvSpPr>
            <p:spPr>
              <a:xfrm>
                <a:off x="552600" y="1598400"/>
                <a:ext cx="109440" cy="37116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160"/>
                  <a:gd name="textAreaBottom" fmla="*/ 366120 h 371160"/>
                </a:gdLst>
                <a:ahLst/>
                <a:rect l="textAreaLeft" t="textAreaTop" r="textAreaRight" b="textAreaBottom"/>
                <a:pathLst>
                  <a:path w="21600" h="73086">
                    <a:moveTo>
                      <a:pt x="3600" y="0"/>
                    </a:moveTo>
                    <a:arcTo wR="3600" hR="3600" stAng="16200000" swAng="-5400000"/>
                    <a:lnTo>
                      <a:pt x="0" y="69486"/>
                    </a:lnTo>
                    <a:arcTo wR="3600" hR="3600" stAng="10800000" swAng="-5400000"/>
                    <a:lnTo>
                      <a:pt x="18000" y="730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2600" y="16725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2600" y="17841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52600" y="18208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2600" y="18583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2600" y="18954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52600" y="19324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468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0732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7996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832320" y="2344680"/>
            <a:ext cx="1756800" cy="384120"/>
            <a:chOff x="832320" y="2344680"/>
            <a:chExt cx="1756800" cy="384120"/>
          </a:xfrm>
        </p:grpSpPr>
        <p:sp>
          <p:nvSpPr>
            <p:cNvPr id="461" name=""/>
            <p:cNvSpPr/>
            <p:nvPr/>
          </p:nvSpPr>
          <p:spPr>
            <a:xfrm>
              <a:off x="1479600" y="2424240"/>
              <a:ext cx="1109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(UMTS Busines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32320" y="24703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1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1293840" y="2344680"/>
              <a:ext cx="109440" cy="371520"/>
              <a:chOff x="1293840" y="2344680"/>
              <a:chExt cx="109440" cy="371520"/>
            </a:xfrm>
          </p:grpSpPr>
          <p:sp>
            <p:nvSpPr>
              <p:cNvPr id="464" name=""/>
              <p:cNvSpPr/>
              <p:nvPr/>
            </p:nvSpPr>
            <p:spPr>
              <a:xfrm>
                <a:off x="1293840" y="2344680"/>
                <a:ext cx="109440" cy="3715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3157">
                    <a:moveTo>
                      <a:pt x="3600" y="0"/>
                    </a:moveTo>
                    <a:arcTo wR="3600" hR="3600" stAng="16200000" swAng="-5400000"/>
                    <a:lnTo>
                      <a:pt x="0" y="69557"/>
                    </a:lnTo>
                    <a:arcTo wR="3600" hR="3600" stAng="10800000" swAng="-5400000"/>
                    <a:lnTo>
                      <a:pt x="18000" y="731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93840" y="24188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293840" y="25304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293840" y="25675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93840" y="26046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293840" y="26420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293840" y="26791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7592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4856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2120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345960" y="5549760"/>
            <a:ext cx="947880" cy="524160"/>
            <a:chOff x="345960" y="5549760"/>
            <a:chExt cx="947880" cy="524160"/>
          </a:xfrm>
        </p:grpSpPr>
        <p:grpSp>
          <p:nvGrpSpPr>
            <p:cNvPr id="475" name=""/>
            <p:cNvGrpSpPr/>
            <p:nvPr/>
          </p:nvGrpSpPr>
          <p:grpSpPr>
            <a:xfrm>
              <a:off x="396720" y="5702400"/>
              <a:ext cx="108000" cy="371520"/>
              <a:chOff x="396720" y="5702400"/>
              <a:chExt cx="108000" cy="371520"/>
            </a:xfrm>
          </p:grpSpPr>
          <p:sp>
            <p:nvSpPr>
              <p:cNvPr id="476" name=""/>
              <p:cNvSpPr/>
              <p:nvPr/>
            </p:nvSpPr>
            <p:spPr>
              <a:xfrm>
                <a:off x="396720" y="5702400"/>
                <a:ext cx="108000" cy="37152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4129">
                    <a:moveTo>
                      <a:pt x="3600" y="0"/>
                    </a:moveTo>
                    <a:arcTo wR="3600" hR="3600" stAng="16200000" swAng="-5400000"/>
                    <a:lnTo>
                      <a:pt x="0" y="70529"/>
                    </a:lnTo>
                    <a:arcTo wR="3600" hR="3600" stAng="10800000" swAng="-5400000"/>
                    <a:lnTo>
                      <a:pt x="18000" y="741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96720" y="57765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96720" y="5888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96720" y="59252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96720" y="596232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96720" y="59997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96720" y="6036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77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0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23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596880" y="5764320"/>
              <a:ext cx="696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Albat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robu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45960" y="554976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720" y="56404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632320" y="2395440"/>
            <a:ext cx="1959840" cy="602640"/>
            <a:chOff x="2632320" y="2395440"/>
            <a:chExt cx="1959840" cy="602640"/>
          </a:xfrm>
        </p:grpSpPr>
        <p:grpSp>
          <p:nvGrpSpPr>
            <p:cNvPr id="490" name=""/>
            <p:cNvGrpSpPr/>
            <p:nvPr/>
          </p:nvGrpSpPr>
          <p:grpSpPr>
            <a:xfrm>
              <a:off x="2632320" y="2395440"/>
              <a:ext cx="1959840" cy="426240"/>
              <a:chOff x="2632320" y="2395440"/>
              <a:chExt cx="1959840" cy="426240"/>
            </a:xfrm>
          </p:grpSpPr>
          <p:grpSp>
            <p:nvGrpSpPr>
              <p:cNvPr id="491" name=""/>
              <p:cNvGrpSpPr/>
              <p:nvPr/>
            </p:nvGrpSpPr>
            <p:grpSpPr>
              <a:xfrm>
                <a:off x="2632320" y="2395440"/>
                <a:ext cx="1959840" cy="426240"/>
                <a:chOff x="2632320" y="2395440"/>
                <a:chExt cx="1959840" cy="42624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3305160" y="2395440"/>
                  <a:ext cx="128700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eac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(Electra II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End imaging (3-4 Mp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632320" y="2525760"/>
                  <a:ext cx="334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021120" y="2428920"/>
                <a:ext cx="186840" cy="349200"/>
                <a:chOff x="3021120" y="2428920"/>
                <a:chExt cx="186840" cy="34920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095640" y="242892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021120" y="263700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095640" y="249876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095640" y="26035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082680" y="265608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058920" y="269100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043080" y="272592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>
                  <a:off x="3054240" y="265608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024000" y="27543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>
                  <a:off x="3080880" y="26575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H="1">
                  <a:off x="3109680" y="265608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6" name=""/>
            <p:cNvSpPr/>
            <p:nvPr/>
          </p:nvSpPr>
          <p:spPr>
            <a:xfrm>
              <a:off x="3057840" y="28605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7451640" y="1349280"/>
            <a:ext cx="1627200" cy="551520"/>
            <a:chOff x="7451640" y="1349280"/>
            <a:chExt cx="1627200" cy="551520"/>
          </a:xfrm>
        </p:grpSpPr>
        <p:grpSp>
          <p:nvGrpSpPr>
            <p:cNvPr id="508" name=""/>
            <p:cNvGrpSpPr/>
            <p:nvPr/>
          </p:nvGrpSpPr>
          <p:grpSpPr>
            <a:xfrm>
              <a:off x="7451640" y="1349280"/>
              <a:ext cx="1627200" cy="551520"/>
              <a:chOff x="7451640" y="1349280"/>
              <a:chExt cx="1627200" cy="551520"/>
            </a:xfrm>
          </p:grpSpPr>
          <p:sp>
            <p:nvSpPr>
              <p:cNvPr id="509" name=""/>
              <p:cNvSpPr/>
              <p:nvPr/>
            </p:nvSpPr>
            <p:spPr>
              <a:xfrm>
                <a:off x="8744400" y="157932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9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451640" y="1474560"/>
                <a:ext cx="1008000" cy="42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HAWK (TBD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NEO II UMTS)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Ultimate messag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502480" y="1349280"/>
                <a:ext cx="122400" cy="1112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8402400" y="1488960"/>
                <a:ext cx="345960" cy="371520"/>
                <a:chOff x="8402400" y="1488960"/>
                <a:chExt cx="345960" cy="37152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8402400" y="1606680"/>
                  <a:ext cx="345960" cy="96840"/>
                </a:xfrm>
                <a:prstGeom prst="rect">
                  <a:avLst/>
                </a:prstGeom>
                <a:solidFill>
                  <a:srgbClr val="87b8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4" name=""/>
                <p:cNvGrpSpPr/>
                <p:nvPr/>
              </p:nvGrpSpPr>
              <p:grpSpPr>
                <a:xfrm>
                  <a:off x="8507160" y="1488960"/>
                  <a:ext cx="109440" cy="371520"/>
                  <a:chOff x="8507160" y="1488960"/>
                  <a:chExt cx="109440" cy="37152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>
                    <a:off x="8507160" y="1488960"/>
                    <a:ext cx="109440" cy="371520"/>
                  </a:xfrm>
                  <a:custGeom>
                    <a:avLst/>
                    <a:gdLst>
                      <a:gd name="textAreaLeft" fmla="*/ 5040 w 109440"/>
                      <a:gd name="textAreaRight" fmla="*/ 104400 w 109440"/>
                      <a:gd name="textAreaTop" fmla="*/ 5040 h 371520"/>
                      <a:gd name="textAreaBottom" fmla="*/ 366480 h 371520"/>
                    </a:gdLst>
                    <a:ahLst/>
                    <a:rect l="textAreaLeft" t="textAreaTop" r="textAreaRight" b="textAreaBottom"/>
                    <a:pathLst>
                      <a:path w="21600" h="73157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69557"/>
                        </a:lnTo>
                        <a:arcTo wR="3600" hR="3600" stAng="10800000" swAng="-5400000"/>
                        <a:lnTo>
                          <a:pt x="18000" y="73157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87b8e5"/>
                  </a:solidFill>
                  <a:ln w="9360">
                    <a:solidFill>
                      <a:srgbClr val="dddddd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8507160" y="15631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8507160" y="16747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8507160" y="171180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8507160" y="174888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8507160" y="17863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8507160" y="182340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858924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856188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853452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25" name=""/>
            <p:cNvSpPr/>
            <p:nvPr/>
          </p:nvSpPr>
          <p:spPr>
            <a:xfrm>
              <a:off x="8687160" y="17524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2608200" y="4356000"/>
            <a:ext cx="2286000" cy="747360"/>
            <a:chOff x="2608200" y="4356000"/>
            <a:chExt cx="2286000" cy="747360"/>
          </a:xfrm>
        </p:grpSpPr>
        <p:sp>
          <p:nvSpPr>
            <p:cNvPr id="527" name=""/>
            <p:cNvSpPr/>
            <p:nvPr/>
          </p:nvSpPr>
          <p:spPr>
            <a:xfrm>
              <a:off x="4076640" y="4716360"/>
              <a:ext cx="5191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98680" y="4433760"/>
              <a:ext cx="159552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Siski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Siemens Sans"/>
                </a:rPr>
                <a:t>(Leopard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 </a:t>
              </a: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(2nd ID Chin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Stylish clam with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08200" y="4554360"/>
              <a:ext cx="4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2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62440" y="435600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19400" y="435600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2890800" y="4506840"/>
              <a:ext cx="186840" cy="349200"/>
              <a:chOff x="2890800" y="4506840"/>
              <a:chExt cx="186840" cy="349200"/>
            </a:xfrm>
          </p:grpSpPr>
          <p:sp>
            <p:nvSpPr>
              <p:cNvPr id="533" name=""/>
              <p:cNvSpPr/>
              <p:nvPr/>
            </p:nvSpPr>
            <p:spPr>
              <a:xfrm>
                <a:off x="2965320" y="45068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890800" y="471492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965320" y="457668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965320" y="46814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952360" y="4734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928600" y="4768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912760" y="48038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2923920" y="4734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893680" y="48322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2950560" y="47354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2979360" y="473400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3059280" y="4506840"/>
              <a:ext cx="186840" cy="349200"/>
              <a:chOff x="3059280" y="4506840"/>
              <a:chExt cx="186840" cy="349200"/>
            </a:xfrm>
          </p:grpSpPr>
          <p:sp>
            <p:nvSpPr>
              <p:cNvPr id="545" name=""/>
              <p:cNvSpPr/>
              <p:nvPr/>
            </p:nvSpPr>
            <p:spPr>
              <a:xfrm>
                <a:off x="3133800" y="45068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059280" y="471492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133800" y="457668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133800" y="46814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120840" y="4734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097080" y="4768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081240" y="48038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3092400" y="4734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062160" y="48322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3119040" y="47354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3147840" y="473400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2927880" y="49291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5043960" y="5535720"/>
            <a:ext cx="1688760" cy="560880"/>
            <a:chOff x="5043960" y="5535720"/>
            <a:chExt cx="1688760" cy="560880"/>
          </a:xfrm>
        </p:grpSpPr>
        <p:sp>
          <p:nvSpPr>
            <p:cNvPr id="558" name=""/>
            <p:cNvSpPr/>
            <p:nvPr/>
          </p:nvSpPr>
          <p:spPr>
            <a:xfrm>
              <a:off x="5043960" y="57754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5396040" y="5668920"/>
              <a:ext cx="110880" cy="371520"/>
              <a:chOff x="5396040" y="5668920"/>
              <a:chExt cx="110880" cy="371520"/>
            </a:xfrm>
          </p:grpSpPr>
          <p:sp>
            <p:nvSpPr>
              <p:cNvPr id="560" name=""/>
              <p:cNvSpPr/>
              <p:nvPr/>
            </p:nvSpPr>
            <p:spPr>
              <a:xfrm>
                <a:off x="5396040" y="5668920"/>
                <a:ext cx="110880" cy="3715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2210">
                    <a:moveTo>
                      <a:pt x="3600" y="0"/>
                    </a:moveTo>
                    <a:arcTo wR="3600" hR="3600" stAng="16200000" swAng="-5400000"/>
                    <a:lnTo>
                      <a:pt x="0" y="68610"/>
                    </a:lnTo>
                    <a:arcTo wR="3600" hR="3600" stAng="10800000" swAng="-5400000"/>
                    <a:lnTo>
                      <a:pt x="18000" y="722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396040" y="57430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396040" y="58546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396040" y="58917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396040" y="59288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396040" y="59662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396040" y="60033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7920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5148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2376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5394240" y="5535720"/>
              <a:ext cx="130320" cy="11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9720" y="5624640"/>
              <a:ext cx="114300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Dodo</a:t>
              </a: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Dorado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b/w, Emerg. Mk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56640" y="58849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8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2264040" y="5516640"/>
            <a:ext cx="1882440" cy="708120"/>
            <a:chOff x="2264040" y="5516640"/>
            <a:chExt cx="1882440" cy="708120"/>
          </a:xfrm>
        </p:grpSpPr>
        <p:grpSp>
          <p:nvGrpSpPr>
            <p:cNvPr id="574" name=""/>
            <p:cNvGrpSpPr/>
            <p:nvPr/>
          </p:nvGrpSpPr>
          <p:grpSpPr>
            <a:xfrm>
              <a:off x="2639880" y="5665680"/>
              <a:ext cx="111240" cy="371520"/>
              <a:chOff x="2639880" y="5665680"/>
              <a:chExt cx="111240" cy="371520"/>
            </a:xfrm>
          </p:grpSpPr>
          <p:sp>
            <p:nvSpPr>
              <p:cNvPr id="575" name=""/>
              <p:cNvSpPr/>
              <p:nvPr/>
            </p:nvSpPr>
            <p:spPr>
              <a:xfrm>
                <a:off x="2639880" y="566568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639880" y="57398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639880" y="58514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639880" y="58885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639880" y="59256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639880" y="59630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639880" y="60001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72340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69532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66760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2865600" y="5676840"/>
              <a:ext cx="12808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Fin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Libra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Entry color/ MMS w/o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264040" y="57862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1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29080" y="5516640"/>
              <a:ext cx="129960" cy="11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364480" y="59817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7101000" y="4430880"/>
            <a:ext cx="1771560" cy="654480"/>
            <a:chOff x="7101000" y="4430880"/>
            <a:chExt cx="1771560" cy="654480"/>
          </a:xfrm>
        </p:grpSpPr>
        <p:sp>
          <p:nvSpPr>
            <p:cNvPr id="590" name=""/>
            <p:cNvSpPr/>
            <p:nvPr/>
          </p:nvSpPr>
          <p:spPr>
            <a:xfrm>
              <a:off x="7101000" y="4430880"/>
              <a:ext cx="11811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Parrot </a:t>
              </a:r>
              <a:r>
                <a:rPr b="1" lang="de-DE" sz="12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(PP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Mar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Convenience/ Reliabil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538120" y="45115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8375760" y="4441680"/>
              <a:ext cx="108000" cy="370800"/>
              <a:chOff x="8375760" y="4441680"/>
              <a:chExt cx="108000" cy="370800"/>
            </a:xfrm>
          </p:grpSpPr>
          <p:sp>
            <p:nvSpPr>
              <p:cNvPr id="593" name=""/>
              <p:cNvSpPr/>
              <p:nvPr/>
            </p:nvSpPr>
            <p:spPr>
              <a:xfrm>
                <a:off x="8375760" y="4441680"/>
                <a:ext cx="108000" cy="37080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0800"/>
                  <a:gd name="textAreaBottom" fmla="*/ 365760 h 370800"/>
                </a:gdLst>
                <a:ahLst/>
                <a:rect l="textAreaLeft" t="textAreaTop" r="textAreaRight" b="textAreaBottom"/>
                <a:pathLst>
                  <a:path w="21600" h="73985">
                    <a:moveTo>
                      <a:pt x="3600" y="0"/>
                    </a:moveTo>
                    <a:arcTo wR="3600" hR="3600" stAng="16200000" swAng="-5400000"/>
                    <a:lnTo>
                      <a:pt x="0" y="70385"/>
                    </a:lnTo>
                    <a:arcTo wR="3600" hR="3600" stAng="10800000" swAng="-5400000"/>
                    <a:lnTo>
                      <a:pt x="18000" y="7398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375760" y="4515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375760" y="462708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375760" y="4664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375760" y="47012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375760" y="473832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375760" y="477540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456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429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402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3" name=""/>
            <p:cNvSpPr/>
            <p:nvPr/>
          </p:nvSpPr>
          <p:spPr>
            <a:xfrm>
              <a:off x="7938000" y="4947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7423200" y="3429000"/>
            <a:ext cx="1396800" cy="517680"/>
            <a:chOff x="7423200" y="3429000"/>
            <a:chExt cx="1396800" cy="517680"/>
          </a:xfrm>
        </p:grpSpPr>
        <p:grpSp>
          <p:nvGrpSpPr>
            <p:cNvPr id="605" name=""/>
            <p:cNvGrpSpPr/>
            <p:nvPr/>
          </p:nvGrpSpPr>
          <p:grpSpPr>
            <a:xfrm>
              <a:off x="7683480" y="3481560"/>
              <a:ext cx="1136520" cy="465120"/>
              <a:chOff x="7683480" y="3481560"/>
              <a:chExt cx="1136520" cy="46512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7683480" y="3571920"/>
                <a:ext cx="186840" cy="349200"/>
                <a:chOff x="7683480" y="3571920"/>
                <a:chExt cx="186840" cy="3492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7758000" y="357192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7683480" y="3779640"/>
                  <a:ext cx="174240" cy="14148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758000" y="36417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7758000" y="37465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7745040" y="37987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7721280" y="383364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7705440" y="3868560"/>
                  <a:ext cx="11376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>
                  <a:off x="7716600" y="379872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7686360" y="38973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H="1">
                  <a:off x="7743240" y="38005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H="1">
                  <a:off x="7773480" y="37987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7986960" y="348156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9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929360" y="3642120"/>
                <a:ext cx="8906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Swal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Siemens Sans"/>
                  </a:rPr>
                  <a:t>(Minos I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7746840" y="3429000"/>
              <a:ext cx="13032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23200" y="36925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2624040" y="3357720"/>
            <a:ext cx="1351080" cy="700200"/>
            <a:chOff x="2624040" y="3357720"/>
            <a:chExt cx="1351080" cy="700200"/>
          </a:xfrm>
        </p:grpSpPr>
        <p:grpSp>
          <p:nvGrpSpPr>
            <p:cNvPr id="623" name=""/>
            <p:cNvGrpSpPr/>
            <p:nvPr/>
          </p:nvGrpSpPr>
          <p:grpSpPr>
            <a:xfrm>
              <a:off x="2624040" y="3357720"/>
              <a:ext cx="1351080" cy="700200"/>
              <a:chOff x="2624040" y="3357720"/>
              <a:chExt cx="1351080" cy="70020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3030480" y="3383280"/>
                <a:ext cx="109440" cy="371520"/>
                <a:chOff x="3030480" y="3383280"/>
                <a:chExt cx="109440" cy="37152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3030480" y="3383280"/>
                  <a:ext cx="109440" cy="371520"/>
                </a:xfrm>
                <a:custGeom>
                  <a:avLst/>
                  <a:gdLst>
                    <a:gd name="textAreaLeft" fmla="*/ 5040 w 109440"/>
                    <a:gd name="textAreaRight" fmla="*/ 104400 w 10944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3157">
                      <a:moveTo>
                        <a:pt x="3600" y="0"/>
                      </a:moveTo>
                      <a:arcTo wR="3600" hR="3600" stAng="16200000" swAng="-5400000"/>
                      <a:lnTo>
                        <a:pt x="0" y="69557"/>
                      </a:lnTo>
                      <a:arcTo wR="3600" hR="3600" stAng="10800000" swAng="-5400000"/>
                      <a:lnTo>
                        <a:pt x="18000" y="731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030480" y="34581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3030480" y="35690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3030480" y="36057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3030480" y="364392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030480" y="368028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030480" y="37184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311292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08592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05748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2624040" y="3357720"/>
                <a:ext cx="1351080" cy="700200"/>
                <a:chOff x="2624040" y="3357720"/>
                <a:chExt cx="1351080" cy="70020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3203640" y="3357720"/>
                  <a:ext cx="771480" cy="70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olari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value, slim convenienc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624040" y="3476880"/>
                  <a:ext cx="771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r>
                    <a:rPr b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8" name=""/>
            <p:cNvSpPr/>
            <p:nvPr/>
          </p:nvSpPr>
          <p:spPr>
            <a:xfrm>
              <a:off x="2985480" y="3810240"/>
              <a:ext cx="51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 (tb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 rot="16200000">
            <a:off x="-2255400" y="3918600"/>
            <a:ext cx="466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Siemens Sans"/>
              </a:rPr>
              <a:t>WORK IN PROGRESS – Budget &amp; resource finalization on-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6875640" y="2781360"/>
            <a:ext cx="1322280" cy="600120"/>
            <a:chOff x="6875640" y="2781360"/>
            <a:chExt cx="1322280" cy="600120"/>
          </a:xfrm>
        </p:grpSpPr>
        <p:sp>
          <p:nvSpPr>
            <p:cNvPr id="641" name=""/>
            <p:cNvSpPr/>
            <p:nvPr/>
          </p:nvSpPr>
          <p:spPr>
            <a:xfrm>
              <a:off x="6875640" y="3114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7108920" y="2781360"/>
              <a:ext cx="1089000" cy="600120"/>
              <a:chOff x="7108920" y="2781360"/>
              <a:chExt cx="1089000" cy="600120"/>
            </a:xfrm>
          </p:grpSpPr>
          <p:sp>
            <p:nvSpPr>
              <p:cNvPr id="643" name=""/>
              <p:cNvSpPr/>
              <p:nvPr/>
            </p:nvSpPr>
            <p:spPr>
              <a:xfrm>
                <a:off x="7358040" y="2949480"/>
                <a:ext cx="8398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Siemens Sans"/>
                  </a:rPr>
                  <a:t>Rav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Siemens Sans"/>
                  </a:rPr>
                  <a:t>(Taurus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en-GB" sz="800" spc="-1" strike="noStrike">
                    <a:solidFill>
                      <a:srgbClr val="000000"/>
                    </a:solidFill>
                    <a:latin typeface="Siemens Sans"/>
                  </a:rPr>
                  <a:t>Outdoor, A-GP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385040" y="2781360"/>
                <a:ext cx="36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8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5" name=""/>
              <p:cNvGrpSpPr/>
              <p:nvPr/>
            </p:nvGrpSpPr>
            <p:grpSpPr>
              <a:xfrm>
                <a:off x="7108920" y="2982960"/>
                <a:ext cx="186840" cy="349200"/>
                <a:chOff x="7108920" y="2982960"/>
                <a:chExt cx="186840" cy="34920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7183440" y="298296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7108920" y="319104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7183440" y="305280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7183440" y="31575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7170480" y="32101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7146720" y="324504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130880" y="327996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>
                  <a:off x="7142040" y="321012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7111800" y="330840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H="1">
                  <a:off x="7168680" y="321156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>
                  <a:off x="7197480" y="321012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7" name=""/>
              <p:cNvSpPr/>
              <p:nvPr/>
            </p:nvSpPr>
            <p:spPr>
              <a:xfrm>
                <a:off x="7172280" y="2830320"/>
                <a:ext cx="130320" cy="111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8" name=""/>
          <p:cNvGrpSpPr/>
          <p:nvPr/>
        </p:nvGrpSpPr>
        <p:grpSpPr>
          <a:xfrm>
            <a:off x="7256520" y="3994200"/>
            <a:ext cx="2068200" cy="349200"/>
            <a:chOff x="7256520" y="3994200"/>
            <a:chExt cx="2068200" cy="349200"/>
          </a:xfrm>
        </p:grpSpPr>
        <p:sp>
          <p:nvSpPr>
            <p:cNvPr id="659" name=""/>
            <p:cNvSpPr/>
            <p:nvPr/>
          </p:nvSpPr>
          <p:spPr>
            <a:xfrm>
              <a:off x="7956360" y="406404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Swift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256520" y="413064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7688160" y="3994200"/>
              <a:ext cx="186840" cy="349200"/>
              <a:chOff x="7688160" y="3994200"/>
              <a:chExt cx="186840" cy="349200"/>
            </a:xfrm>
          </p:grpSpPr>
          <p:sp>
            <p:nvSpPr>
              <p:cNvPr id="662" name=""/>
              <p:cNvSpPr/>
              <p:nvPr/>
            </p:nvSpPr>
            <p:spPr>
              <a:xfrm>
                <a:off x="7762680" y="399420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688160" y="4201920"/>
                <a:ext cx="174240" cy="141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762680" y="40640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762680" y="41688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749720" y="4221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725960" y="4255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710120" y="4290840"/>
                <a:ext cx="11376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7721280" y="4221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91040" y="43196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7747920" y="422280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7778160" y="422100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3" name=""/>
          <p:cNvGrpSpPr/>
          <p:nvPr/>
        </p:nvGrpSpPr>
        <p:grpSpPr>
          <a:xfrm>
            <a:off x="3741840" y="1496880"/>
            <a:ext cx="1512720" cy="936360"/>
            <a:chOff x="3741840" y="1496880"/>
            <a:chExt cx="1512720" cy="936360"/>
          </a:xfrm>
        </p:grpSpPr>
        <p:sp>
          <p:nvSpPr>
            <p:cNvPr id="674" name=""/>
            <p:cNvSpPr/>
            <p:nvPr/>
          </p:nvSpPr>
          <p:spPr>
            <a:xfrm>
              <a:off x="3741840" y="1496880"/>
              <a:ext cx="1512720" cy="93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4757760" y="1882440"/>
              <a:ext cx="427320" cy="139680"/>
              <a:chOff x="4757760" y="1882440"/>
              <a:chExt cx="427320" cy="139680"/>
            </a:xfrm>
          </p:grpSpPr>
          <p:sp>
            <p:nvSpPr>
              <p:cNvPr id="676" name=""/>
              <p:cNvSpPr/>
              <p:nvPr/>
            </p:nvSpPr>
            <p:spPr>
              <a:xfrm>
                <a:off x="4757760" y="1882440"/>
                <a:ext cx="123840" cy="1238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922280" y="1900080"/>
                <a:ext cx="262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NAM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3781440" y="2203200"/>
              <a:ext cx="1139040" cy="193680"/>
              <a:chOff x="3781440" y="2203200"/>
              <a:chExt cx="1139040" cy="193680"/>
            </a:xfrm>
          </p:grpSpPr>
          <p:sp>
            <p:nvSpPr>
              <p:cNvPr id="679" name=""/>
              <p:cNvSpPr/>
              <p:nvPr/>
            </p:nvSpPr>
            <p:spPr>
              <a:xfrm>
                <a:off x="3781440" y="2203200"/>
                <a:ext cx="183960" cy="193680"/>
              </a:xfrm>
              <a:prstGeom prst="flowChartSor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979440" y="2242800"/>
                <a:ext cx="941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Clam or slider (tbd.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3816360" y="1868400"/>
              <a:ext cx="846000" cy="152640"/>
              <a:chOff x="3816360" y="1868400"/>
              <a:chExt cx="846000" cy="152640"/>
            </a:xfrm>
          </p:grpSpPr>
          <p:sp>
            <p:nvSpPr>
              <p:cNvPr id="682" name=""/>
              <p:cNvSpPr/>
              <p:nvPr/>
            </p:nvSpPr>
            <p:spPr>
              <a:xfrm>
                <a:off x="3816360" y="1876320"/>
                <a:ext cx="135000" cy="123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986640" y="1868400"/>
                <a:ext cx="675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iemens Sans"/>
                  </a:rPr>
                  <a:t>850 Varia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4471920" y="1537920"/>
              <a:ext cx="280440" cy="291960"/>
              <a:chOff x="4471920" y="1537920"/>
              <a:chExt cx="280440" cy="291960"/>
            </a:xfrm>
          </p:grpSpPr>
          <p:grpSp>
            <p:nvGrpSpPr>
              <p:cNvPr id="685" name=""/>
              <p:cNvGrpSpPr/>
              <p:nvPr/>
            </p:nvGrpSpPr>
            <p:grpSpPr>
              <a:xfrm>
                <a:off x="4471920" y="1537920"/>
                <a:ext cx="78120" cy="291960"/>
                <a:chOff x="4471920" y="1537920"/>
                <a:chExt cx="78120" cy="29196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4471920" y="1537920"/>
                  <a:ext cx="78120" cy="291960"/>
                </a:xfrm>
                <a:custGeom>
                  <a:avLst/>
                  <a:gdLst>
                    <a:gd name="textAreaLeft" fmla="*/ 3600 w 78120"/>
                    <a:gd name="textAreaRight" fmla="*/ 74520 w 7812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0455">
                      <a:moveTo>
                        <a:pt x="3600" y="0"/>
                      </a:moveTo>
                      <a:arcTo wR="3600" hR="3600" stAng="16200000" swAng="-5400000"/>
                      <a:lnTo>
                        <a:pt x="0" y="76855"/>
                      </a:lnTo>
                      <a:arcTo wR="3600" hR="3600" stAng="10800000" swAng="-5400000"/>
                      <a:lnTo>
                        <a:pt x="18000" y="804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87b8e5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471920" y="159624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471920" y="16840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471920" y="17128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471920" y="174240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471920" y="177156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471920" y="180072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53060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451080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49136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" name=""/>
              <p:cNvSpPr/>
              <p:nvPr/>
            </p:nvSpPr>
            <p:spPr>
              <a:xfrm>
                <a:off x="4619160" y="1632960"/>
                <a:ext cx="133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3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762440" y="1537920"/>
              <a:ext cx="375480" cy="291960"/>
              <a:chOff x="4762440" y="1537920"/>
              <a:chExt cx="375480" cy="291960"/>
            </a:xfrm>
          </p:grpSpPr>
          <p:grpSp>
            <p:nvGrpSpPr>
              <p:cNvPr id="698" name=""/>
              <p:cNvGrpSpPr/>
              <p:nvPr/>
            </p:nvGrpSpPr>
            <p:grpSpPr>
              <a:xfrm>
                <a:off x="4762440" y="1537920"/>
                <a:ext cx="77040" cy="291960"/>
                <a:chOff x="4762440" y="1537920"/>
                <a:chExt cx="77040" cy="29196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4762440" y="1537920"/>
                  <a:ext cx="77040" cy="291960"/>
                </a:xfrm>
                <a:custGeom>
                  <a:avLst/>
                  <a:gdLst>
                    <a:gd name="textAreaLeft" fmla="*/ 3600 w 77040"/>
                    <a:gd name="textAreaRight" fmla="*/ 73440 w 7704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1578">
                      <a:moveTo>
                        <a:pt x="3600" y="0"/>
                      </a:moveTo>
                      <a:arcTo wR="3600" hR="3600" stAng="16200000" swAng="-5400000"/>
                      <a:lnTo>
                        <a:pt x="0" y="77978"/>
                      </a:lnTo>
                      <a:arcTo wR="3600" hR="3600" stAng="10800000" swAng="-5400000"/>
                      <a:lnTo>
                        <a:pt x="18000" y="8157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762440" y="159624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4762440" y="16840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4762440" y="17128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762440" y="174240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4762440" y="177156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4762440" y="180072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482004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480096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78152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9" name=""/>
              <p:cNvSpPr/>
              <p:nvPr/>
            </p:nvSpPr>
            <p:spPr>
              <a:xfrm>
                <a:off x="4893480" y="1632960"/>
                <a:ext cx="24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2,5 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" name=""/>
            <p:cNvSpPr/>
            <p:nvPr/>
          </p:nvSpPr>
          <p:spPr>
            <a:xfrm>
              <a:off x="3789720" y="155376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986640" y="2064960"/>
              <a:ext cx="258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iemens Sans"/>
                </a:rPr>
                <a:t>APA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28960" y="2052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967320" y="4292640"/>
            <a:ext cx="1470960" cy="576360"/>
            <a:chOff x="967320" y="4292640"/>
            <a:chExt cx="1470960" cy="576360"/>
          </a:xfrm>
        </p:grpSpPr>
        <p:grpSp>
          <p:nvGrpSpPr>
            <p:cNvPr id="714" name=""/>
            <p:cNvGrpSpPr/>
            <p:nvPr/>
          </p:nvGrpSpPr>
          <p:grpSpPr>
            <a:xfrm>
              <a:off x="967320" y="4292640"/>
              <a:ext cx="1470960" cy="576360"/>
              <a:chOff x="967320" y="4292640"/>
              <a:chExt cx="1470960" cy="576360"/>
            </a:xfrm>
          </p:grpSpPr>
          <p:grpSp>
            <p:nvGrpSpPr>
              <p:cNvPr id="715" name=""/>
              <p:cNvGrpSpPr/>
              <p:nvPr/>
            </p:nvGrpSpPr>
            <p:grpSpPr>
              <a:xfrm>
                <a:off x="967320" y="4292640"/>
                <a:ext cx="1470960" cy="576360"/>
                <a:chOff x="967320" y="4292640"/>
                <a:chExt cx="1470960" cy="57636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967320" y="4292640"/>
                  <a:ext cx="334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11/0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504800" y="4321080"/>
                  <a:ext cx="93348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Flaming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Stylish&amp;smal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affordable slid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8" name=""/>
                <p:cNvGrpSpPr/>
                <p:nvPr/>
              </p:nvGrpSpPr>
              <p:grpSpPr>
                <a:xfrm>
                  <a:off x="1185840" y="4357800"/>
                  <a:ext cx="303120" cy="204840"/>
                  <a:chOff x="1185840" y="4357800"/>
                  <a:chExt cx="303120" cy="20484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>
                    <a:off x="1185840" y="4462560"/>
                    <a:ext cx="236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1269720" y="447696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1238040" y="45007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1217520" y="452628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flipH="1">
                    <a:off x="1231560" y="447696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1190520" y="45453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H="1">
                    <a:off x="1266480" y="4478400"/>
                    <a:ext cx="76320" cy="6696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flipH="1">
                    <a:off x="1307880" y="447696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1252440" y="4357800"/>
                    <a:ext cx="2365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1326960" y="438948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1284120" y="44341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30" name=""/>
              <p:cNvSpPr/>
              <p:nvPr/>
            </p:nvSpPr>
            <p:spPr>
              <a:xfrm>
                <a:off x="1134000" y="461952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25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1008000" y="4464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609120" y="3002040"/>
            <a:ext cx="2196000" cy="426600"/>
            <a:chOff x="609120" y="3002040"/>
            <a:chExt cx="2196000" cy="426600"/>
          </a:xfrm>
        </p:grpSpPr>
        <p:sp>
          <p:nvSpPr>
            <p:cNvPr id="733" name=""/>
            <p:cNvSpPr/>
            <p:nvPr/>
          </p:nvSpPr>
          <p:spPr>
            <a:xfrm>
              <a:off x="609120" y="300204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0000"/>
                  </a:solidFill>
                  <a:latin typeface="Siemens Sans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" name=""/>
            <p:cNvGrpSpPr/>
            <p:nvPr/>
          </p:nvGrpSpPr>
          <p:grpSpPr>
            <a:xfrm>
              <a:off x="844920" y="3065400"/>
              <a:ext cx="1960200" cy="363240"/>
              <a:chOff x="844920" y="3065400"/>
              <a:chExt cx="1960200" cy="363240"/>
            </a:xfrm>
          </p:grpSpPr>
          <p:grpSp>
            <p:nvGrpSpPr>
              <p:cNvPr id="735" name=""/>
              <p:cNvGrpSpPr/>
              <p:nvPr/>
            </p:nvGrpSpPr>
            <p:grpSpPr>
              <a:xfrm>
                <a:off x="844920" y="3065400"/>
                <a:ext cx="1960200" cy="363240"/>
                <a:chOff x="844920" y="3065400"/>
                <a:chExt cx="1960200" cy="363240"/>
              </a:xfrm>
            </p:grpSpPr>
            <p:grpSp>
              <p:nvGrpSpPr>
                <p:cNvPr id="736" name=""/>
                <p:cNvGrpSpPr/>
                <p:nvPr/>
              </p:nvGrpSpPr>
              <p:grpSpPr>
                <a:xfrm>
                  <a:off x="844920" y="3065400"/>
                  <a:ext cx="1960200" cy="304560"/>
                  <a:chOff x="844920" y="3065400"/>
                  <a:chExt cx="1960200" cy="304560"/>
                </a:xfrm>
              </p:grpSpPr>
              <p:sp>
                <p:nvSpPr>
                  <p:cNvPr id="737" name=""/>
                  <p:cNvSpPr/>
                  <p:nvPr/>
                </p:nvSpPr>
                <p:spPr>
                  <a:xfrm>
                    <a:off x="1517760" y="3065400"/>
                    <a:ext cx="1287360" cy="30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4160"/>
                        <a:tab algn="l" pos="1768320"/>
                        <a:tab algn="l" pos="2652840"/>
                        <a:tab algn="l" pos="3537000"/>
                        <a:tab algn="l" pos="4421160"/>
                        <a:tab algn="l" pos="5305320"/>
                        <a:tab algn="l" pos="6189840"/>
                        <a:tab algn="l" pos="7074000"/>
                        <a:tab algn="l" pos="7958160"/>
                        <a:tab algn="l" pos="8842320"/>
                        <a:tab algn="l" pos="9726480"/>
                        <a:tab algn="l" pos="10611000"/>
                      </a:tabLst>
                    </a:pPr>
                    <a:r>
                      <a:rPr b="1" lang="de-DE" sz="1200" spc="-1" strike="noStrike">
                        <a:solidFill>
                          <a:srgbClr val="000000"/>
                        </a:solidFill>
                        <a:latin typeface="Siemens Sans"/>
                      </a:rPr>
                      <a:t>Electra MM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4160"/>
                        <a:tab algn="l" pos="1768320"/>
                        <a:tab algn="l" pos="2652840"/>
                        <a:tab algn="l" pos="3537000"/>
                        <a:tab algn="l" pos="4421160"/>
                        <a:tab algn="l" pos="5305320"/>
                        <a:tab algn="l" pos="6189840"/>
                        <a:tab algn="l" pos="7074000"/>
                        <a:tab algn="l" pos="7958160"/>
                        <a:tab algn="l" pos="8842320"/>
                        <a:tab algn="l" pos="9726480"/>
                        <a:tab algn="l" pos="10611000"/>
                      </a:tabLst>
                    </a:pPr>
                    <a:r>
                      <a:rPr b="0" lang="de-DE" sz="800" spc="-1" strike="noStrike">
                        <a:solidFill>
                          <a:srgbClr val="000000"/>
                        </a:solidFill>
                        <a:latin typeface="Siemens Sans"/>
                      </a:rPr>
                      <a:t>(TBD) (PPM)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844920" y="3130560"/>
                    <a:ext cx="33444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000" spc="-1" strike="noStrike">
                        <a:solidFill>
                          <a:srgbClr val="000000"/>
                        </a:solidFill>
                        <a:latin typeface="Siemens Sans"/>
                      </a:rPr>
                      <a:t>11/0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9" name=""/>
                <p:cNvGrpSpPr/>
                <p:nvPr/>
              </p:nvGrpSpPr>
              <p:grpSpPr>
                <a:xfrm>
                  <a:off x="1217520" y="3079440"/>
                  <a:ext cx="187560" cy="349200"/>
                  <a:chOff x="1217520" y="3079440"/>
                  <a:chExt cx="187560" cy="349200"/>
                </a:xfrm>
              </p:grpSpPr>
              <p:sp>
                <p:nvSpPr>
                  <p:cNvPr id="740" name=""/>
                  <p:cNvSpPr/>
                  <p:nvPr/>
                </p:nvSpPr>
                <p:spPr>
                  <a:xfrm>
                    <a:off x="1292400" y="3079440"/>
                    <a:ext cx="112680" cy="209520"/>
                  </a:xfrm>
                  <a:custGeom>
                    <a:avLst/>
                    <a:gdLst>
                      <a:gd name="textAreaLeft" fmla="*/ 5400 w 112680"/>
                      <a:gd name="textAreaRight" fmla="*/ 107280 w 112680"/>
                      <a:gd name="textAreaTop" fmla="*/ 5400 h 209520"/>
                      <a:gd name="textAreaBottom" fmla="*/ 204120 h 209520"/>
                    </a:gdLst>
                    <a:ahLst/>
                    <a:rect l="textAreaLeft" t="textAreaTop" r="textAreaRight" b="textAreaBottom"/>
                    <a:pathLst>
                      <a:path w="21600" h="40104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36504"/>
                        </a:lnTo>
                        <a:arcTo wR="3600" hR="3600" stAng="10800000" swAng="-5400000"/>
                        <a:lnTo>
                          <a:pt x="18000" y="40104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e68d34"/>
                  </a:solidFill>
                  <a:ln w="9360">
                    <a:solidFill>
                      <a:srgbClr val="dddddd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1217520" y="3287520"/>
                    <a:ext cx="17460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e68d34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1292400" y="3149280"/>
                    <a:ext cx="1108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1292400" y="3254040"/>
                    <a:ext cx="1126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1279440" y="3306600"/>
                    <a:ext cx="1126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1255680" y="3341520"/>
                    <a:ext cx="1144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1239840" y="3376440"/>
                    <a:ext cx="1144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 flipH="1">
                    <a:off x="1250640" y="3306600"/>
                    <a:ext cx="57240" cy="968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1220760" y="3404880"/>
                    <a:ext cx="1126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 flipH="1">
                    <a:off x="1278000" y="3308040"/>
                    <a:ext cx="55440" cy="968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 flipH="1">
                    <a:off x="1306080" y="3306600"/>
                    <a:ext cx="57240" cy="950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51" name=""/>
              <p:cNvSpPr/>
              <p:nvPr/>
            </p:nvSpPr>
            <p:spPr>
              <a:xfrm>
                <a:off x="1042920" y="3284640"/>
                <a:ext cx="108000" cy="108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2" name=""/>
          <p:cNvSpPr/>
          <p:nvPr/>
        </p:nvSpPr>
        <p:spPr>
          <a:xfrm>
            <a:off x="2798640" y="4375080"/>
            <a:ext cx="108000" cy="1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475000" y="5533920"/>
            <a:ext cx="108000" cy="1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4280400" y="3979800"/>
            <a:ext cx="2452320" cy="675720"/>
            <a:chOff x="4280400" y="3979800"/>
            <a:chExt cx="2452320" cy="675720"/>
          </a:xfrm>
        </p:grpSpPr>
        <p:grpSp>
          <p:nvGrpSpPr>
            <p:cNvPr id="755" name=""/>
            <p:cNvGrpSpPr/>
            <p:nvPr/>
          </p:nvGrpSpPr>
          <p:grpSpPr>
            <a:xfrm>
              <a:off x="4280400" y="3979800"/>
              <a:ext cx="2452320" cy="675720"/>
              <a:chOff x="4280400" y="3979800"/>
              <a:chExt cx="2452320" cy="675720"/>
            </a:xfrm>
          </p:grpSpPr>
          <p:grpSp>
            <p:nvGrpSpPr>
              <p:cNvPr id="756" name=""/>
              <p:cNvGrpSpPr/>
              <p:nvPr/>
            </p:nvGrpSpPr>
            <p:grpSpPr>
              <a:xfrm>
                <a:off x="4633920" y="4119480"/>
                <a:ext cx="186840" cy="349200"/>
                <a:chOff x="4633920" y="4119480"/>
                <a:chExt cx="186840" cy="34920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4708440" y="411948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633920" y="432756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708440" y="418932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708440" y="429408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695480" y="434664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671720" y="438156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655880" y="441648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H="1">
                  <a:off x="4667040" y="434664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636800" y="44449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flipH="1">
                  <a:off x="4693680" y="434808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H="1">
                  <a:off x="4722480" y="434664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8" name=""/>
              <p:cNvSpPr/>
              <p:nvPr/>
            </p:nvSpPr>
            <p:spPr>
              <a:xfrm>
                <a:off x="4919760" y="4048200"/>
                <a:ext cx="18129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Nightingale</a:t>
                </a:r>
                <a:r>
                  <a:rPr b="0" lang="de-DE" sz="1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Siemens Sans"/>
                  </a:rPr>
                  <a:t>(Adonis II) </a:t>
                </a: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2nd ID China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Young  Music / Stereo loudsp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280400" y="420696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4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778280" y="3979800"/>
                <a:ext cx="130320" cy="111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583520" y="451800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25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614840" y="3992400"/>
                <a:ext cx="122400" cy="1112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>
              <a:off x="4443480" y="4005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5072400" y="4594320"/>
            <a:ext cx="1476000" cy="660600"/>
            <a:chOff x="5072400" y="4594320"/>
            <a:chExt cx="1476000" cy="660600"/>
          </a:xfrm>
        </p:grpSpPr>
        <p:grpSp>
          <p:nvGrpSpPr>
            <p:cNvPr id="775" name=""/>
            <p:cNvGrpSpPr/>
            <p:nvPr/>
          </p:nvGrpSpPr>
          <p:grpSpPr>
            <a:xfrm>
              <a:off x="5072400" y="4594320"/>
              <a:ext cx="1476000" cy="660600"/>
              <a:chOff x="5072400" y="4594320"/>
              <a:chExt cx="1476000" cy="660600"/>
            </a:xfrm>
          </p:grpSpPr>
          <p:sp>
            <p:nvSpPr>
              <p:cNvPr id="776" name=""/>
              <p:cNvSpPr/>
              <p:nvPr/>
            </p:nvSpPr>
            <p:spPr>
              <a:xfrm>
                <a:off x="5640480" y="4707000"/>
                <a:ext cx="907920" cy="5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Brambl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Hermes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Basic imag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072400" y="465300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5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8" name=""/>
              <p:cNvGrpSpPr/>
              <p:nvPr/>
            </p:nvGrpSpPr>
            <p:grpSpPr>
              <a:xfrm>
                <a:off x="5438880" y="4651200"/>
                <a:ext cx="109440" cy="371520"/>
                <a:chOff x="5438880" y="4651200"/>
                <a:chExt cx="109440" cy="3715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5438880" y="4651200"/>
                  <a:ext cx="109440" cy="371520"/>
                </a:xfrm>
                <a:custGeom>
                  <a:avLst/>
                  <a:gdLst>
                    <a:gd name="textAreaLeft" fmla="*/ 5040 w 109440"/>
                    <a:gd name="textAreaRight" fmla="*/ 104400 w 10944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3157">
                      <a:moveTo>
                        <a:pt x="3600" y="0"/>
                      </a:moveTo>
                      <a:arcTo wR="3600" hR="3600" stAng="16200000" swAng="-5400000"/>
                      <a:lnTo>
                        <a:pt x="0" y="69557"/>
                      </a:lnTo>
                      <a:arcTo wR="3600" hR="3600" stAng="10800000" swAng="-5400000"/>
                      <a:lnTo>
                        <a:pt x="18000" y="731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438880" y="47253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438880" y="48369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438880" y="48740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438880" y="491112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438880" y="49485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438880" y="49856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52096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49360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46624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9" name=""/>
              <p:cNvSpPr/>
              <p:nvPr/>
            </p:nvSpPr>
            <p:spPr>
              <a:xfrm>
                <a:off x="5810400" y="4594320"/>
                <a:ext cx="12996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146920" y="480528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10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5641920" y="45957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7380360" y="2039760"/>
            <a:ext cx="1623960" cy="401760"/>
            <a:chOff x="7380360" y="2039760"/>
            <a:chExt cx="1623960" cy="401760"/>
          </a:xfrm>
        </p:grpSpPr>
        <p:grpSp>
          <p:nvGrpSpPr>
            <p:cNvPr id="793" name=""/>
            <p:cNvGrpSpPr/>
            <p:nvPr/>
          </p:nvGrpSpPr>
          <p:grpSpPr>
            <a:xfrm>
              <a:off x="7444080" y="2039760"/>
              <a:ext cx="1560240" cy="401760"/>
              <a:chOff x="7444080" y="2039760"/>
              <a:chExt cx="1560240" cy="401760"/>
            </a:xfrm>
          </p:grpSpPr>
          <p:sp>
            <p:nvSpPr>
              <p:cNvPr id="794" name=""/>
              <p:cNvSpPr/>
              <p:nvPr/>
            </p:nvSpPr>
            <p:spPr>
              <a:xfrm>
                <a:off x="7740720" y="2101680"/>
                <a:ext cx="1263600" cy="2854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Siemens Sans"/>
                  </a:rPr>
                  <a:t>Hummingbir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(Hydra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High-end sty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444080" y="228888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8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6" name=""/>
              <p:cNvGrpSpPr/>
              <p:nvPr/>
            </p:nvGrpSpPr>
            <p:grpSpPr>
              <a:xfrm>
                <a:off x="7507440" y="2039760"/>
                <a:ext cx="303120" cy="204840"/>
                <a:chOff x="7507440" y="2039760"/>
                <a:chExt cx="303120" cy="20484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7507440" y="2144520"/>
                  <a:ext cx="236520" cy="10008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591320" y="2158920"/>
                  <a:ext cx="1526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7559640" y="218268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7539120" y="220824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flipH="1">
                  <a:off x="7553160" y="2158920"/>
                  <a:ext cx="76320" cy="666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7512120" y="222732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H="1">
                  <a:off x="7588080" y="2160360"/>
                  <a:ext cx="76320" cy="6696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H="1">
                  <a:off x="7629480" y="2158920"/>
                  <a:ext cx="76320" cy="666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7574040" y="2039760"/>
                  <a:ext cx="236520" cy="12384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7648560" y="207144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7605720" y="211608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8" name=""/>
              <p:cNvSpPr/>
              <p:nvPr/>
            </p:nvSpPr>
            <p:spPr>
              <a:xfrm>
                <a:off x="7845840" y="219060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80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9" name=""/>
            <p:cNvSpPr/>
            <p:nvPr/>
          </p:nvSpPr>
          <p:spPr>
            <a:xfrm>
              <a:off x="7380360" y="206064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4727520" y="2227320"/>
            <a:ext cx="2428920" cy="551520"/>
            <a:chOff x="4727520" y="2227320"/>
            <a:chExt cx="2428920" cy="551520"/>
          </a:xfrm>
        </p:grpSpPr>
        <p:sp>
          <p:nvSpPr>
            <p:cNvPr id="811" name=""/>
            <p:cNvSpPr/>
            <p:nvPr/>
          </p:nvSpPr>
          <p:spPr>
            <a:xfrm>
              <a:off x="6480000" y="222732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27520" y="2352600"/>
              <a:ext cx="163692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CUCKO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Busin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678720" y="228924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390000" y="2635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90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6386400" y="2349360"/>
              <a:ext cx="303480" cy="204840"/>
              <a:chOff x="6386400" y="2349360"/>
              <a:chExt cx="303480" cy="204840"/>
            </a:xfrm>
          </p:grpSpPr>
          <p:sp>
            <p:nvSpPr>
              <p:cNvPr id="816" name=""/>
              <p:cNvSpPr/>
              <p:nvPr/>
            </p:nvSpPr>
            <p:spPr>
              <a:xfrm>
                <a:off x="6386400" y="245412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70640" y="24685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438960" y="24922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18440" y="25178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6432480" y="24685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391440" y="25369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6467400" y="24703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6508800" y="24685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453360" y="234936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527880" y="2381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485040" y="24256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7" name=""/>
          <p:cNvGrpSpPr/>
          <p:nvPr/>
        </p:nvGrpSpPr>
        <p:grpSpPr>
          <a:xfrm>
            <a:off x="4795920" y="1773360"/>
            <a:ext cx="2347920" cy="426240"/>
            <a:chOff x="4795920" y="1773360"/>
            <a:chExt cx="2347920" cy="426240"/>
          </a:xfrm>
        </p:grpSpPr>
        <p:sp>
          <p:nvSpPr>
            <p:cNvPr id="828" name=""/>
            <p:cNvSpPr/>
            <p:nvPr/>
          </p:nvSpPr>
          <p:spPr>
            <a:xfrm>
              <a:off x="4795920" y="1773360"/>
              <a:ext cx="15555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W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Mus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665760" y="1836720"/>
              <a:ext cx="4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706080" y="20080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2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6381720" y="1835280"/>
              <a:ext cx="302760" cy="204120"/>
              <a:chOff x="6381720" y="1835280"/>
              <a:chExt cx="302760" cy="204120"/>
            </a:xfrm>
          </p:grpSpPr>
          <p:sp>
            <p:nvSpPr>
              <p:cNvPr id="832" name=""/>
              <p:cNvSpPr/>
              <p:nvPr/>
            </p:nvSpPr>
            <p:spPr>
              <a:xfrm>
                <a:off x="6381720" y="1939680"/>
                <a:ext cx="236160" cy="997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465600" y="19540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433920" y="197784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13400" y="200340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6427080" y="19540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386400" y="20224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6462000" y="19558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6503400" y="19540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448320" y="1835280"/>
                <a:ext cx="236160" cy="123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522840" y="186696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480000" y="191124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3" name=""/>
          <p:cNvGrpSpPr/>
          <p:nvPr/>
        </p:nvGrpSpPr>
        <p:grpSpPr>
          <a:xfrm>
            <a:off x="3843360" y="2682720"/>
            <a:ext cx="2124000" cy="674280"/>
            <a:chOff x="3843360" y="2682720"/>
            <a:chExt cx="2124000" cy="674280"/>
          </a:xfrm>
        </p:grpSpPr>
        <p:sp>
          <p:nvSpPr>
            <p:cNvPr id="844" name=""/>
            <p:cNvSpPr/>
            <p:nvPr/>
          </p:nvSpPr>
          <p:spPr>
            <a:xfrm>
              <a:off x="3843360" y="2860560"/>
              <a:ext cx="16365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ROBIN (TB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C-Cla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89640" y="268272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578560" y="32194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5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5613480" y="2817720"/>
              <a:ext cx="109440" cy="371520"/>
              <a:chOff x="5613480" y="2817720"/>
              <a:chExt cx="109440" cy="371520"/>
            </a:xfrm>
          </p:grpSpPr>
          <p:sp>
            <p:nvSpPr>
              <p:cNvPr id="848" name=""/>
              <p:cNvSpPr/>
              <p:nvPr/>
            </p:nvSpPr>
            <p:spPr>
              <a:xfrm>
                <a:off x="5613480" y="2817720"/>
                <a:ext cx="109440" cy="3715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3157">
                    <a:moveTo>
                      <a:pt x="3600" y="0"/>
                    </a:moveTo>
                    <a:arcTo wR="3600" hR="3600" stAng="16200000" swAng="-5400000"/>
                    <a:lnTo>
                      <a:pt x="0" y="69557"/>
                    </a:lnTo>
                    <a:arcTo wR="3600" hR="3600" stAng="10800000" swAng="-5400000"/>
                    <a:lnTo>
                      <a:pt x="18000" y="731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613480" y="28918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613480" y="30034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613480" y="30405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613480" y="30776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13480" y="31150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613480" y="31521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69556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66820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64084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8" name=""/>
          <p:cNvGrpSpPr/>
          <p:nvPr/>
        </p:nvGrpSpPr>
        <p:grpSpPr>
          <a:xfrm>
            <a:off x="4114800" y="3200400"/>
            <a:ext cx="1851120" cy="734400"/>
            <a:chOff x="4114800" y="3200400"/>
            <a:chExt cx="1851120" cy="734400"/>
          </a:xfrm>
        </p:grpSpPr>
        <p:grpSp>
          <p:nvGrpSpPr>
            <p:cNvPr id="859" name=""/>
            <p:cNvGrpSpPr/>
            <p:nvPr/>
          </p:nvGrpSpPr>
          <p:grpSpPr>
            <a:xfrm>
              <a:off x="4114800" y="3200400"/>
              <a:ext cx="1851120" cy="734400"/>
              <a:chOff x="4114800" y="3200400"/>
              <a:chExt cx="1851120" cy="734400"/>
            </a:xfrm>
          </p:grpSpPr>
          <p:grpSp>
            <p:nvGrpSpPr>
              <p:cNvPr id="860" name=""/>
              <p:cNvGrpSpPr/>
              <p:nvPr/>
            </p:nvGrpSpPr>
            <p:grpSpPr>
              <a:xfrm>
                <a:off x="4114800" y="3200400"/>
                <a:ext cx="1851120" cy="734400"/>
                <a:chOff x="4114800" y="3200400"/>
                <a:chExt cx="1851120" cy="734400"/>
              </a:xfrm>
            </p:grpSpPr>
            <p:sp>
              <p:nvSpPr>
                <p:cNvPr id="861" name=""/>
                <p:cNvSpPr/>
                <p:nvPr/>
              </p:nvSpPr>
              <p:spPr>
                <a:xfrm>
                  <a:off x="4597560" y="3291120"/>
                  <a:ext cx="1368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Swif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(</a:t>
                  </a:r>
                  <a:r>
                    <a:rPr b="0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Minos II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2" name=""/>
                <p:cNvGrpSpPr/>
                <p:nvPr/>
              </p:nvGrpSpPr>
              <p:grpSpPr>
                <a:xfrm>
                  <a:off x="4233960" y="3484800"/>
                  <a:ext cx="303120" cy="204120"/>
                  <a:chOff x="4233960" y="3484800"/>
                  <a:chExt cx="303120" cy="204120"/>
                </a:xfrm>
              </p:grpSpPr>
              <p:sp>
                <p:nvSpPr>
                  <p:cNvPr id="863" name=""/>
                  <p:cNvSpPr/>
                  <p:nvPr/>
                </p:nvSpPr>
                <p:spPr>
                  <a:xfrm>
                    <a:off x="4233960" y="3589200"/>
                    <a:ext cx="23652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4317840" y="360360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4286160" y="36273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4265640" y="36529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flipH="1">
                    <a:off x="4279680" y="3603600"/>
                    <a:ext cx="76320" cy="66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4238640" y="367200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H="1">
                    <a:off x="4314600" y="360504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flipH="1">
                    <a:off x="4356000" y="3603600"/>
                    <a:ext cx="76320" cy="66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4300560" y="3484800"/>
                    <a:ext cx="23652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4375080" y="35161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4332240" y="35607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4" name=""/>
                <p:cNvSpPr/>
                <p:nvPr/>
              </p:nvSpPr>
              <p:spPr>
                <a:xfrm>
                  <a:off x="4114800" y="3225960"/>
                  <a:ext cx="8888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3/0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4513320" y="3200400"/>
                  <a:ext cx="122040" cy="111240"/>
                </a:xfrm>
                <a:prstGeom prst="ellipse">
                  <a:avLst/>
                </a:prstGeom>
                <a:solidFill>
                  <a:srgbClr val="8c94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4159440" y="3797280"/>
                  <a:ext cx="256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150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4597560" y="3594240"/>
                  <a:ext cx="13316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1ID: Multimedia;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1ID: Busines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8" name=""/>
              <p:cNvSpPr/>
              <p:nvPr/>
            </p:nvSpPr>
            <p:spPr>
              <a:xfrm>
                <a:off x="4659480" y="3208320"/>
                <a:ext cx="107640" cy="108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9" name=""/>
            <p:cNvSpPr/>
            <p:nvPr/>
          </p:nvSpPr>
          <p:spPr>
            <a:xfrm>
              <a:off x="4806360" y="3208320"/>
              <a:ext cx="12888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5319720" y="2381400"/>
            <a:ext cx="3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65560" y="641664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08000" y="202680"/>
            <a:ext cx="8750160" cy="69228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85G Hero roadmap scenario: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(Global + APAC + NAM Products: 29 GSM + 4 UMTS)  </a:t>
            </a:r>
            <a:br>
              <a:rPr sz="2000"/>
            </a:b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Siemens Sans"/>
              </a:rPr>
              <a:t>Target Roadmap for planning</a:t>
            </a:r>
            <a:r>
              <a:rPr b="1" lang="en-GB" sz="2000" spc="-1" strike="noStrike">
                <a:solidFill>
                  <a:srgbClr val="000000"/>
                </a:solidFill>
                <a:latin typeface="Siemens Sans"/>
              </a:rPr>
              <a:t> as of November 26th, 0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41120" y="1006560"/>
            <a:ext cx="8856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425520" y="6068880"/>
            <a:ext cx="8175600" cy="426960"/>
            <a:chOff x="425520" y="6068880"/>
            <a:chExt cx="8175600" cy="426960"/>
          </a:xfrm>
        </p:grpSpPr>
        <p:grpSp>
          <p:nvGrpSpPr>
            <p:cNvPr id="885" name=""/>
            <p:cNvGrpSpPr/>
            <p:nvPr/>
          </p:nvGrpSpPr>
          <p:grpSpPr>
            <a:xfrm>
              <a:off x="425520" y="6284880"/>
              <a:ext cx="8175600" cy="210960"/>
              <a:chOff x="425520" y="6284880"/>
              <a:chExt cx="8175600" cy="210960"/>
            </a:xfrm>
          </p:grpSpPr>
          <p:sp>
            <p:nvSpPr>
              <p:cNvPr id="886" name=""/>
              <p:cNvSpPr/>
              <p:nvPr/>
            </p:nvSpPr>
            <p:spPr>
              <a:xfrm>
                <a:off x="425520" y="6284880"/>
                <a:ext cx="8175600" cy="2109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850200" y="6305400"/>
                <a:ext cx="1328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F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425520" y="6068880"/>
              <a:ext cx="8170200" cy="201600"/>
              <a:chOff x="425520" y="6068880"/>
              <a:chExt cx="8170200" cy="201600"/>
            </a:xfrm>
          </p:grpSpPr>
          <p:sp>
            <p:nvSpPr>
              <p:cNvPr id="889" name=""/>
              <p:cNvSpPr/>
              <p:nvPr/>
            </p:nvSpPr>
            <p:spPr>
              <a:xfrm>
                <a:off x="42552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47140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568920" y="6068880"/>
                <a:ext cx="202680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52088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91116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9224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9798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01172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7" name=""/>
          <p:cNvGrpSpPr/>
          <p:nvPr/>
        </p:nvGrpSpPr>
        <p:grpSpPr>
          <a:xfrm>
            <a:off x="422280" y="1052640"/>
            <a:ext cx="8165880" cy="420480"/>
            <a:chOff x="422280" y="1052640"/>
            <a:chExt cx="8165880" cy="420480"/>
          </a:xfrm>
        </p:grpSpPr>
        <p:sp>
          <p:nvSpPr>
            <p:cNvPr id="898" name=""/>
            <p:cNvSpPr/>
            <p:nvPr/>
          </p:nvSpPr>
          <p:spPr>
            <a:xfrm>
              <a:off x="2467080" y="12715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559560" y="12715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22280" y="1052640"/>
              <a:ext cx="8165880" cy="210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1780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818160" y="1073160"/>
              <a:ext cx="132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FY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00092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513320" y="1271520"/>
              <a:ext cx="202536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22280" y="1271520"/>
              <a:ext cx="20257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0648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970520" y="12729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"/>
          <p:cNvSpPr/>
          <p:nvPr/>
        </p:nvSpPr>
        <p:spPr>
          <a:xfrm>
            <a:off x="245916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50072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55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85788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3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63680" y="1492200"/>
            <a:ext cx="1984320" cy="1335240"/>
          </a:xfrm>
          <a:custGeom>
            <a:avLst/>
            <a:gdLst/>
            <a:ahLst/>
            <a:rect l="l" t="t" r="r" b="b"/>
            <a:pathLst>
              <a:path w="4309" h="1859">
                <a:moveTo>
                  <a:pt x="0" y="0"/>
                </a:moveTo>
                <a:lnTo>
                  <a:pt x="4309" y="0"/>
                </a:lnTo>
                <a:lnTo>
                  <a:pt x="4309" y="1859"/>
                </a:lnTo>
                <a:lnTo>
                  <a:pt x="0" y="185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067360" y="3019320"/>
            <a:ext cx="5191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294000" y="350208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349960" y="349416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695680" y="2913120"/>
            <a:ext cx="1092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461360" y="5481720"/>
            <a:ext cx="8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915320" y="2311560"/>
            <a:ext cx="84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8602560" y="310680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254720" y="3724200"/>
            <a:ext cx="860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616040" y="1563840"/>
            <a:ext cx="86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Siemens Sans"/>
              </a:rPr>
              <a:t>defined</a:t>
            </a:r>
            <a:r>
              <a:rPr b="1" i="1" lang="de-DE" sz="1000" spc="-1" strike="noStrike" u="sng">
                <a:solidFill>
                  <a:srgbClr val="000000"/>
                </a:solidFill>
                <a:uFillTx/>
                <a:latin typeface="Siemens Sans"/>
              </a:rPr>
              <a:t> in 75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552600" y="1471680"/>
            <a:ext cx="1172880" cy="497880"/>
            <a:chOff x="552600" y="1471680"/>
            <a:chExt cx="1172880" cy="497880"/>
          </a:xfrm>
        </p:grpSpPr>
        <p:sp>
          <p:nvSpPr>
            <p:cNvPr id="924" name=""/>
            <p:cNvSpPr/>
            <p:nvPr/>
          </p:nvSpPr>
          <p:spPr>
            <a:xfrm>
              <a:off x="680040" y="14716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20720" y="1641240"/>
              <a:ext cx="1004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UMTS Multimedi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6" name=""/>
            <p:cNvGrpSpPr/>
            <p:nvPr/>
          </p:nvGrpSpPr>
          <p:grpSpPr>
            <a:xfrm>
              <a:off x="552600" y="1598400"/>
              <a:ext cx="109440" cy="371160"/>
              <a:chOff x="552600" y="1598400"/>
              <a:chExt cx="109440" cy="371160"/>
            </a:xfrm>
          </p:grpSpPr>
          <p:sp>
            <p:nvSpPr>
              <p:cNvPr id="927" name=""/>
              <p:cNvSpPr/>
              <p:nvPr/>
            </p:nvSpPr>
            <p:spPr>
              <a:xfrm>
                <a:off x="552600" y="1598400"/>
                <a:ext cx="109440" cy="37116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160"/>
                  <a:gd name="textAreaBottom" fmla="*/ 366120 h 371160"/>
                </a:gdLst>
                <a:ahLst/>
                <a:rect l="textAreaLeft" t="textAreaTop" r="textAreaRight" b="textAreaBottom"/>
                <a:pathLst>
                  <a:path w="21600" h="73086">
                    <a:moveTo>
                      <a:pt x="3600" y="0"/>
                    </a:moveTo>
                    <a:arcTo wR="3600" hR="3600" stAng="16200000" swAng="-5400000"/>
                    <a:lnTo>
                      <a:pt x="0" y="69486"/>
                    </a:lnTo>
                    <a:arcTo wR="3600" hR="3600" stAng="10800000" swAng="-5400000"/>
                    <a:lnTo>
                      <a:pt x="18000" y="7308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52600" y="16725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52600" y="17841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52600" y="18208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52600" y="18583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52600" y="18954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52600" y="19324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3468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0732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79960" y="18208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7" name=""/>
          <p:cNvGrpSpPr/>
          <p:nvPr/>
        </p:nvGrpSpPr>
        <p:grpSpPr>
          <a:xfrm>
            <a:off x="832320" y="2344680"/>
            <a:ext cx="1756800" cy="384120"/>
            <a:chOff x="832320" y="2344680"/>
            <a:chExt cx="1756800" cy="384120"/>
          </a:xfrm>
        </p:grpSpPr>
        <p:sp>
          <p:nvSpPr>
            <p:cNvPr id="938" name=""/>
            <p:cNvSpPr/>
            <p:nvPr/>
          </p:nvSpPr>
          <p:spPr>
            <a:xfrm>
              <a:off x="1479600" y="2424240"/>
              <a:ext cx="1109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(UMTS Busines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32320" y="24703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1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1293840" y="2344680"/>
              <a:ext cx="109440" cy="371520"/>
              <a:chOff x="1293840" y="2344680"/>
              <a:chExt cx="109440" cy="371520"/>
            </a:xfrm>
          </p:grpSpPr>
          <p:sp>
            <p:nvSpPr>
              <p:cNvPr id="941" name=""/>
              <p:cNvSpPr/>
              <p:nvPr/>
            </p:nvSpPr>
            <p:spPr>
              <a:xfrm>
                <a:off x="1293840" y="2344680"/>
                <a:ext cx="109440" cy="3715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3157">
                    <a:moveTo>
                      <a:pt x="3600" y="0"/>
                    </a:moveTo>
                    <a:arcTo wR="3600" hR="3600" stAng="16200000" swAng="-5400000"/>
                    <a:lnTo>
                      <a:pt x="0" y="69557"/>
                    </a:lnTo>
                    <a:arcTo wR="3600" hR="3600" stAng="10800000" swAng="-5400000"/>
                    <a:lnTo>
                      <a:pt x="18000" y="731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293840" y="24188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293840" y="25304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293840" y="25675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293840" y="26046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293840" y="26420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293840" y="267912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37592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34856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321200" y="2567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1" name=""/>
          <p:cNvGrpSpPr/>
          <p:nvPr/>
        </p:nvGrpSpPr>
        <p:grpSpPr>
          <a:xfrm>
            <a:off x="345960" y="5549760"/>
            <a:ext cx="947880" cy="524160"/>
            <a:chOff x="345960" y="5549760"/>
            <a:chExt cx="947880" cy="524160"/>
          </a:xfrm>
        </p:grpSpPr>
        <p:grpSp>
          <p:nvGrpSpPr>
            <p:cNvPr id="952" name=""/>
            <p:cNvGrpSpPr/>
            <p:nvPr/>
          </p:nvGrpSpPr>
          <p:grpSpPr>
            <a:xfrm>
              <a:off x="396720" y="5702400"/>
              <a:ext cx="108000" cy="371520"/>
              <a:chOff x="396720" y="5702400"/>
              <a:chExt cx="108000" cy="371520"/>
            </a:xfrm>
          </p:grpSpPr>
          <p:sp>
            <p:nvSpPr>
              <p:cNvPr id="953" name=""/>
              <p:cNvSpPr/>
              <p:nvPr/>
            </p:nvSpPr>
            <p:spPr>
              <a:xfrm>
                <a:off x="396720" y="5702400"/>
                <a:ext cx="108000" cy="37152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4129">
                    <a:moveTo>
                      <a:pt x="3600" y="0"/>
                    </a:moveTo>
                    <a:arcTo wR="3600" hR="3600" stAng="16200000" swAng="-5400000"/>
                    <a:lnTo>
                      <a:pt x="0" y="70529"/>
                    </a:lnTo>
                    <a:arcTo wR="3600" hR="3600" stAng="10800000" swAng="-5400000"/>
                    <a:lnTo>
                      <a:pt x="18000" y="741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96720" y="57765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96720" y="5888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96720" y="59252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96720" y="596232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96720" y="59997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96720" y="6036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7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50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23720" y="59252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"/>
            <p:cNvSpPr/>
            <p:nvPr/>
          </p:nvSpPr>
          <p:spPr>
            <a:xfrm>
              <a:off x="596880" y="5764320"/>
              <a:ext cx="696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Albat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robu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45960" y="554976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11720" y="56404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2632320" y="2395440"/>
            <a:ext cx="1959840" cy="602640"/>
            <a:chOff x="2632320" y="2395440"/>
            <a:chExt cx="1959840" cy="602640"/>
          </a:xfrm>
        </p:grpSpPr>
        <p:grpSp>
          <p:nvGrpSpPr>
            <p:cNvPr id="967" name=""/>
            <p:cNvGrpSpPr/>
            <p:nvPr/>
          </p:nvGrpSpPr>
          <p:grpSpPr>
            <a:xfrm>
              <a:off x="2632320" y="2395440"/>
              <a:ext cx="1959840" cy="426240"/>
              <a:chOff x="2632320" y="2395440"/>
              <a:chExt cx="1959840" cy="426240"/>
            </a:xfrm>
          </p:grpSpPr>
          <p:grpSp>
            <p:nvGrpSpPr>
              <p:cNvPr id="968" name=""/>
              <p:cNvGrpSpPr/>
              <p:nvPr/>
            </p:nvGrpSpPr>
            <p:grpSpPr>
              <a:xfrm>
                <a:off x="2632320" y="2395440"/>
                <a:ext cx="1959840" cy="426240"/>
                <a:chOff x="2632320" y="2395440"/>
                <a:chExt cx="1959840" cy="42624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3305160" y="2395440"/>
                  <a:ext cx="1287000" cy="42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eacoc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(Electra II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End imaging (3-4 Mp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632320" y="2525760"/>
                  <a:ext cx="334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1" name=""/>
              <p:cNvGrpSpPr/>
              <p:nvPr/>
            </p:nvGrpSpPr>
            <p:grpSpPr>
              <a:xfrm>
                <a:off x="3021120" y="2428920"/>
                <a:ext cx="186840" cy="349200"/>
                <a:chOff x="3021120" y="2428920"/>
                <a:chExt cx="186840" cy="349200"/>
              </a:xfrm>
            </p:grpSpPr>
            <p:sp>
              <p:nvSpPr>
                <p:cNvPr id="972" name=""/>
                <p:cNvSpPr/>
                <p:nvPr/>
              </p:nvSpPr>
              <p:spPr>
                <a:xfrm>
                  <a:off x="3095640" y="242892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3021120" y="263700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3095640" y="249876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3095640" y="26035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3082680" y="265608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3058920" y="269100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3043080" y="272592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flipH="1">
                  <a:off x="3054240" y="265608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3024000" y="27543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flipH="1">
                  <a:off x="3080880" y="26575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H="1">
                  <a:off x="3109680" y="265608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3" name=""/>
            <p:cNvSpPr/>
            <p:nvPr/>
          </p:nvSpPr>
          <p:spPr>
            <a:xfrm>
              <a:off x="3057840" y="28605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7451640" y="1349280"/>
            <a:ext cx="1627200" cy="551520"/>
            <a:chOff x="7451640" y="1349280"/>
            <a:chExt cx="1627200" cy="551520"/>
          </a:xfrm>
        </p:grpSpPr>
        <p:grpSp>
          <p:nvGrpSpPr>
            <p:cNvPr id="985" name=""/>
            <p:cNvGrpSpPr/>
            <p:nvPr/>
          </p:nvGrpSpPr>
          <p:grpSpPr>
            <a:xfrm>
              <a:off x="7451640" y="1349280"/>
              <a:ext cx="1627200" cy="551520"/>
              <a:chOff x="7451640" y="1349280"/>
              <a:chExt cx="1627200" cy="551520"/>
            </a:xfrm>
          </p:grpSpPr>
          <p:sp>
            <p:nvSpPr>
              <p:cNvPr id="986" name=""/>
              <p:cNvSpPr/>
              <p:nvPr/>
            </p:nvSpPr>
            <p:spPr>
              <a:xfrm>
                <a:off x="8744400" y="157932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9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451640" y="1474560"/>
                <a:ext cx="1008000" cy="42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HAWK (TBD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NEO II UMTS)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Ultimate messag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502480" y="1349280"/>
                <a:ext cx="122400" cy="1112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9" name=""/>
              <p:cNvGrpSpPr/>
              <p:nvPr/>
            </p:nvGrpSpPr>
            <p:grpSpPr>
              <a:xfrm>
                <a:off x="8402400" y="1488960"/>
                <a:ext cx="345960" cy="371520"/>
                <a:chOff x="8402400" y="1488960"/>
                <a:chExt cx="345960" cy="37152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8402400" y="1606680"/>
                  <a:ext cx="345960" cy="96840"/>
                </a:xfrm>
                <a:prstGeom prst="rect">
                  <a:avLst/>
                </a:prstGeom>
                <a:solidFill>
                  <a:srgbClr val="87b8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1" name=""/>
                <p:cNvGrpSpPr/>
                <p:nvPr/>
              </p:nvGrpSpPr>
              <p:grpSpPr>
                <a:xfrm>
                  <a:off x="8507160" y="1488960"/>
                  <a:ext cx="109440" cy="371520"/>
                  <a:chOff x="8507160" y="1488960"/>
                  <a:chExt cx="109440" cy="37152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>
                    <a:off x="8507160" y="1488960"/>
                    <a:ext cx="109440" cy="371520"/>
                  </a:xfrm>
                  <a:custGeom>
                    <a:avLst/>
                    <a:gdLst>
                      <a:gd name="textAreaLeft" fmla="*/ 5040 w 109440"/>
                      <a:gd name="textAreaRight" fmla="*/ 104400 w 109440"/>
                      <a:gd name="textAreaTop" fmla="*/ 5040 h 371520"/>
                      <a:gd name="textAreaBottom" fmla="*/ 366480 h 371520"/>
                    </a:gdLst>
                    <a:ahLst/>
                    <a:rect l="textAreaLeft" t="textAreaTop" r="textAreaRight" b="textAreaBottom"/>
                    <a:pathLst>
                      <a:path w="21600" h="73157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69557"/>
                        </a:lnTo>
                        <a:arcTo wR="3600" hR="3600" stAng="10800000" swAng="-5400000"/>
                        <a:lnTo>
                          <a:pt x="18000" y="73157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87b8e5"/>
                  </a:solidFill>
                  <a:ln w="9360">
                    <a:solidFill>
                      <a:srgbClr val="dddddd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8507160" y="15631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8507160" y="16747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8507160" y="171180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8507160" y="174888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8507160" y="17863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8507160" y="182340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858924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856188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8534520" y="1711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002" name=""/>
            <p:cNvSpPr/>
            <p:nvPr/>
          </p:nvSpPr>
          <p:spPr>
            <a:xfrm>
              <a:off x="8687160" y="17524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2608200" y="4356000"/>
            <a:ext cx="2286000" cy="747360"/>
            <a:chOff x="2608200" y="4356000"/>
            <a:chExt cx="2286000" cy="747360"/>
          </a:xfrm>
        </p:grpSpPr>
        <p:sp>
          <p:nvSpPr>
            <p:cNvPr id="1004" name=""/>
            <p:cNvSpPr/>
            <p:nvPr/>
          </p:nvSpPr>
          <p:spPr>
            <a:xfrm>
              <a:off x="4076640" y="4716360"/>
              <a:ext cx="5191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298680" y="4433760"/>
              <a:ext cx="159552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Siski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Siemens Sans"/>
                </a:rPr>
                <a:t>(Leopard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 </a:t>
              </a: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(2nd ID Chin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Stylish clam with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08200" y="4554360"/>
              <a:ext cx="4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2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962440" y="435600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119400" y="435600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2890800" y="4506840"/>
              <a:ext cx="186840" cy="349200"/>
              <a:chOff x="2890800" y="4506840"/>
              <a:chExt cx="186840" cy="349200"/>
            </a:xfrm>
          </p:grpSpPr>
          <p:sp>
            <p:nvSpPr>
              <p:cNvPr id="1010" name=""/>
              <p:cNvSpPr/>
              <p:nvPr/>
            </p:nvSpPr>
            <p:spPr>
              <a:xfrm>
                <a:off x="2965320" y="45068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890800" y="471492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965320" y="457668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965320" y="46814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952360" y="4734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928600" y="4768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912760" y="48038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>
                <a:off x="2923920" y="4734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893680" y="48322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950560" y="47354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>
                <a:off x="2979360" y="473400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3059280" y="4506840"/>
              <a:ext cx="186840" cy="349200"/>
              <a:chOff x="3059280" y="4506840"/>
              <a:chExt cx="186840" cy="349200"/>
            </a:xfrm>
          </p:grpSpPr>
          <p:sp>
            <p:nvSpPr>
              <p:cNvPr id="1022" name=""/>
              <p:cNvSpPr/>
              <p:nvPr/>
            </p:nvSpPr>
            <p:spPr>
              <a:xfrm>
                <a:off x="3133800" y="45068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9280" y="471492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133800" y="457668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133800" y="46814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120840" y="4734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097080" y="4768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081240" y="48038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3092400" y="4734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62160" y="48322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3119040" y="47354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3147840" y="473400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2927880" y="49291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5043960" y="5535720"/>
            <a:ext cx="1688760" cy="560880"/>
            <a:chOff x="5043960" y="5535720"/>
            <a:chExt cx="1688760" cy="560880"/>
          </a:xfrm>
        </p:grpSpPr>
        <p:sp>
          <p:nvSpPr>
            <p:cNvPr id="1035" name=""/>
            <p:cNvSpPr/>
            <p:nvPr/>
          </p:nvSpPr>
          <p:spPr>
            <a:xfrm>
              <a:off x="5043960" y="57754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6" name=""/>
            <p:cNvGrpSpPr/>
            <p:nvPr/>
          </p:nvGrpSpPr>
          <p:grpSpPr>
            <a:xfrm>
              <a:off x="5396040" y="5668920"/>
              <a:ext cx="110880" cy="371520"/>
              <a:chOff x="5396040" y="5668920"/>
              <a:chExt cx="110880" cy="371520"/>
            </a:xfrm>
          </p:grpSpPr>
          <p:sp>
            <p:nvSpPr>
              <p:cNvPr id="1037" name=""/>
              <p:cNvSpPr/>
              <p:nvPr/>
            </p:nvSpPr>
            <p:spPr>
              <a:xfrm>
                <a:off x="5396040" y="5668920"/>
                <a:ext cx="110880" cy="3715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2210">
                    <a:moveTo>
                      <a:pt x="3600" y="0"/>
                    </a:moveTo>
                    <a:arcTo wR="3600" hR="3600" stAng="16200000" swAng="-5400000"/>
                    <a:lnTo>
                      <a:pt x="0" y="68610"/>
                    </a:lnTo>
                    <a:arcTo wR="3600" hR="3600" stAng="10800000" swAng="-5400000"/>
                    <a:lnTo>
                      <a:pt x="18000" y="722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396040" y="57430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396040" y="58546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396040" y="58917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396040" y="59288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396040" y="59662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96040" y="60033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47920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45148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42376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5394240" y="5535720"/>
              <a:ext cx="130320" cy="11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589720" y="5624640"/>
              <a:ext cx="114300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Dodo</a:t>
              </a: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Dorado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b/w, Emerg. Mk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156640" y="58849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8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2264040" y="5516640"/>
            <a:ext cx="1882440" cy="708120"/>
            <a:chOff x="2264040" y="5516640"/>
            <a:chExt cx="1882440" cy="708120"/>
          </a:xfrm>
        </p:grpSpPr>
        <p:grpSp>
          <p:nvGrpSpPr>
            <p:cNvPr id="1051" name=""/>
            <p:cNvGrpSpPr/>
            <p:nvPr/>
          </p:nvGrpSpPr>
          <p:grpSpPr>
            <a:xfrm>
              <a:off x="2639880" y="5665680"/>
              <a:ext cx="111240" cy="371520"/>
              <a:chOff x="2639880" y="5665680"/>
              <a:chExt cx="111240" cy="371520"/>
            </a:xfrm>
          </p:grpSpPr>
          <p:sp>
            <p:nvSpPr>
              <p:cNvPr id="1052" name=""/>
              <p:cNvSpPr/>
              <p:nvPr/>
            </p:nvSpPr>
            <p:spPr>
              <a:xfrm>
                <a:off x="2639880" y="566568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2639880" y="57398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639880" y="58514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639880" y="58885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639880" y="59256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639880" y="59630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639880" y="60001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72340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69532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667600" y="588852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2" name=""/>
            <p:cNvSpPr/>
            <p:nvPr/>
          </p:nvSpPr>
          <p:spPr>
            <a:xfrm>
              <a:off x="2865600" y="5676840"/>
              <a:ext cx="12808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Fin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Libra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Entry color/ MMS w/o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264040" y="57862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1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629080" y="5516640"/>
              <a:ext cx="129960" cy="11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364480" y="59817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7101000" y="4430880"/>
            <a:ext cx="1771560" cy="654480"/>
            <a:chOff x="7101000" y="4430880"/>
            <a:chExt cx="1771560" cy="654480"/>
          </a:xfrm>
        </p:grpSpPr>
        <p:sp>
          <p:nvSpPr>
            <p:cNvPr id="1067" name=""/>
            <p:cNvSpPr/>
            <p:nvPr/>
          </p:nvSpPr>
          <p:spPr>
            <a:xfrm>
              <a:off x="7101000" y="4430880"/>
              <a:ext cx="11811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Parrot </a:t>
              </a:r>
              <a:r>
                <a:rPr b="1" lang="de-DE" sz="12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(PP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Mar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Convenience/ Reliabil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538120" y="45115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8375760" y="4441680"/>
              <a:ext cx="108000" cy="370800"/>
              <a:chOff x="8375760" y="4441680"/>
              <a:chExt cx="108000" cy="370800"/>
            </a:xfrm>
          </p:grpSpPr>
          <p:sp>
            <p:nvSpPr>
              <p:cNvPr id="1070" name=""/>
              <p:cNvSpPr/>
              <p:nvPr/>
            </p:nvSpPr>
            <p:spPr>
              <a:xfrm>
                <a:off x="8375760" y="4441680"/>
                <a:ext cx="108000" cy="37080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0800"/>
                  <a:gd name="textAreaBottom" fmla="*/ 365760 h 370800"/>
                </a:gdLst>
                <a:ahLst/>
                <a:rect l="textAreaLeft" t="textAreaTop" r="textAreaRight" b="textAreaBottom"/>
                <a:pathLst>
                  <a:path w="21600" h="73985">
                    <a:moveTo>
                      <a:pt x="3600" y="0"/>
                    </a:moveTo>
                    <a:arcTo wR="3600" hR="3600" stAng="16200000" swAng="-5400000"/>
                    <a:lnTo>
                      <a:pt x="0" y="70385"/>
                    </a:lnTo>
                    <a:arcTo wR="3600" hR="3600" stAng="10800000" swAng="-5400000"/>
                    <a:lnTo>
                      <a:pt x="18000" y="7398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75760" y="4515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75760" y="462708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8375760" y="4664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375760" y="47012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8375760" y="473832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8375760" y="477540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8456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8429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8402760" y="4664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7938000" y="4947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7423200" y="3429000"/>
            <a:ext cx="1396800" cy="517680"/>
            <a:chOff x="7423200" y="3429000"/>
            <a:chExt cx="1396800" cy="517680"/>
          </a:xfrm>
        </p:grpSpPr>
        <p:grpSp>
          <p:nvGrpSpPr>
            <p:cNvPr id="1082" name=""/>
            <p:cNvGrpSpPr/>
            <p:nvPr/>
          </p:nvGrpSpPr>
          <p:grpSpPr>
            <a:xfrm>
              <a:off x="7683480" y="3481560"/>
              <a:ext cx="1136520" cy="465120"/>
              <a:chOff x="7683480" y="3481560"/>
              <a:chExt cx="1136520" cy="465120"/>
            </a:xfrm>
          </p:grpSpPr>
          <p:grpSp>
            <p:nvGrpSpPr>
              <p:cNvPr id="1083" name=""/>
              <p:cNvGrpSpPr/>
              <p:nvPr/>
            </p:nvGrpSpPr>
            <p:grpSpPr>
              <a:xfrm>
                <a:off x="7683480" y="3571920"/>
                <a:ext cx="186840" cy="349200"/>
                <a:chOff x="7683480" y="3571920"/>
                <a:chExt cx="186840" cy="3492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7758000" y="357192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7683480" y="3779640"/>
                  <a:ext cx="174240" cy="14148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7758000" y="36417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758000" y="37465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7745040" y="37987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7721280" y="383364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7705440" y="3868560"/>
                  <a:ext cx="11376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flipH="1">
                  <a:off x="7716600" y="379872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7686360" y="38973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flipH="1">
                  <a:off x="7743240" y="38005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flipH="1">
                  <a:off x="7773480" y="379872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5" name=""/>
              <p:cNvSpPr/>
              <p:nvPr/>
            </p:nvSpPr>
            <p:spPr>
              <a:xfrm>
                <a:off x="7986960" y="348156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9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929360" y="3642120"/>
                <a:ext cx="8906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Swal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Siemens Sans"/>
                  </a:rPr>
                  <a:t>(Minos I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7" name=""/>
            <p:cNvSpPr/>
            <p:nvPr/>
          </p:nvSpPr>
          <p:spPr>
            <a:xfrm>
              <a:off x="7746840" y="3429000"/>
              <a:ext cx="13032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23200" y="36925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2624040" y="3357720"/>
            <a:ext cx="1351080" cy="700200"/>
            <a:chOff x="2624040" y="3357720"/>
            <a:chExt cx="1351080" cy="700200"/>
          </a:xfrm>
        </p:grpSpPr>
        <p:grpSp>
          <p:nvGrpSpPr>
            <p:cNvPr id="1100" name=""/>
            <p:cNvGrpSpPr/>
            <p:nvPr/>
          </p:nvGrpSpPr>
          <p:grpSpPr>
            <a:xfrm>
              <a:off x="2624040" y="3357720"/>
              <a:ext cx="1351080" cy="700200"/>
              <a:chOff x="2624040" y="3357720"/>
              <a:chExt cx="1351080" cy="700200"/>
            </a:xfrm>
          </p:grpSpPr>
          <p:grpSp>
            <p:nvGrpSpPr>
              <p:cNvPr id="1101" name=""/>
              <p:cNvGrpSpPr/>
              <p:nvPr/>
            </p:nvGrpSpPr>
            <p:grpSpPr>
              <a:xfrm>
                <a:off x="3030480" y="3383280"/>
                <a:ext cx="109440" cy="371520"/>
                <a:chOff x="3030480" y="3383280"/>
                <a:chExt cx="109440" cy="37152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3030480" y="3383280"/>
                  <a:ext cx="109440" cy="371520"/>
                </a:xfrm>
                <a:custGeom>
                  <a:avLst/>
                  <a:gdLst>
                    <a:gd name="textAreaLeft" fmla="*/ 5040 w 109440"/>
                    <a:gd name="textAreaRight" fmla="*/ 104400 w 10944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3157">
                      <a:moveTo>
                        <a:pt x="3600" y="0"/>
                      </a:moveTo>
                      <a:arcTo wR="3600" hR="3600" stAng="16200000" swAng="-5400000"/>
                      <a:lnTo>
                        <a:pt x="0" y="69557"/>
                      </a:lnTo>
                      <a:arcTo wR="3600" hR="3600" stAng="10800000" swAng="-5400000"/>
                      <a:lnTo>
                        <a:pt x="18000" y="731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3030480" y="34581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3030480" y="35690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3030480" y="36057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3030480" y="364392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3030480" y="368028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3030480" y="371844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311292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308592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3057480" y="360576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2624040" y="3357720"/>
                <a:ext cx="1351080" cy="700200"/>
                <a:chOff x="2624040" y="3357720"/>
                <a:chExt cx="1351080" cy="70020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3203640" y="3357720"/>
                  <a:ext cx="771480" cy="70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olari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value, slim convenienc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2624040" y="3476880"/>
                  <a:ext cx="771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r>
                    <a:rPr b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5" name=""/>
            <p:cNvSpPr/>
            <p:nvPr/>
          </p:nvSpPr>
          <p:spPr>
            <a:xfrm>
              <a:off x="2985480" y="3810240"/>
              <a:ext cx="51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 (tb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 rot="16200000">
            <a:off x="-2255400" y="3918600"/>
            <a:ext cx="466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Siemens Sans"/>
              </a:rPr>
              <a:t>WORK IN PROGRESS – Budget &amp; resource finalization on-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6875640" y="2781360"/>
            <a:ext cx="1322280" cy="600120"/>
            <a:chOff x="6875640" y="2781360"/>
            <a:chExt cx="1322280" cy="600120"/>
          </a:xfrm>
        </p:grpSpPr>
        <p:sp>
          <p:nvSpPr>
            <p:cNvPr id="1118" name=""/>
            <p:cNvSpPr/>
            <p:nvPr/>
          </p:nvSpPr>
          <p:spPr>
            <a:xfrm>
              <a:off x="6875640" y="3114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9" name=""/>
            <p:cNvGrpSpPr/>
            <p:nvPr/>
          </p:nvGrpSpPr>
          <p:grpSpPr>
            <a:xfrm>
              <a:off x="7108920" y="2781360"/>
              <a:ext cx="1089000" cy="600120"/>
              <a:chOff x="7108920" y="2781360"/>
              <a:chExt cx="1089000" cy="600120"/>
            </a:xfrm>
          </p:grpSpPr>
          <p:sp>
            <p:nvSpPr>
              <p:cNvPr id="1120" name=""/>
              <p:cNvSpPr/>
              <p:nvPr/>
            </p:nvSpPr>
            <p:spPr>
              <a:xfrm>
                <a:off x="7358040" y="2949480"/>
                <a:ext cx="8398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Siemens Sans"/>
                  </a:rPr>
                  <a:t>Rav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Siemens Sans"/>
                  </a:rPr>
                  <a:t>(Taurus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en-GB" sz="800" spc="-1" strike="noStrike">
                    <a:solidFill>
                      <a:srgbClr val="000000"/>
                    </a:solidFill>
                    <a:latin typeface="Siemens Sans"/>
                  </a:rPr>
                  <a:t>Outdoor, A-GP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385040" y="2781360"/>
                <a:ext cx="36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8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2" name=""/>
              <p:cNvGrpSpPr/>
              <p:nvPr/>
            </p:nvGrpSpPr>
            <p:grpSpPr>
              <a:xfrm>
                <a:off x="7108920" y="2982960"/>
                <a:ext cx="186840" cy="349200"/>
                <a:chOff x="7108920" y="2982960"/>
                <a:chExt cx="186840" cy="3492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7183440" y="298296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7108920" y="319104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7183440" y="305280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7183440" y="31575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170480" y="32101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7146720" y="324504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7130880" y="327996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flipH="1">
                  <a:off x="7142040" y="321012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7111800" y="330840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flipH="1">
                  <a:off x="7168680" y="321156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H="1">
                  <a:off x="7197480" y="321012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4" name=""/>
              <p:cNvSpPr/>
              <p:nvPr/>
            </p:nvSpPr>
            <p:spPr>
              <a:xfrm>
                <a:off x="7172280" y="2830320"/>
                <a:ext cx="130320" cy="111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5" name=""/>
          <p:cNvGrpSpPr/>
          <p:nvPr/>
        </p:nvGrpSpPr>
        <p:grpSpPr>
          <a:xfrm>
            <a:off x="7256520" y="3994200"/>
            <a:ext cx="2068200" cy="349200"/>
            <a:chOff x="7256520" y="3994200"/>
            <a:chExt cx="2068200" cy="349200"/>
          </a:xfrm>
        </p:grpSpPr>
        <p:sp>
          <p:nvSpPr>
            <p:cNvPr id="1136" name=""/>
            <p:cNvSpPr/>
            <p:nvPr/>
          </p:nvSpPr>
          <p:spPr>
            <a:xfrm>
              <a:off x="7956360" y="406404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Swift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56520" y="413064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8" name=""/>
            <p:cNvGrpSpPr/>
            <p:nvPr/>
          </p:nvGrpSpPr>
          <p:grpSpPr>
            <a:xfrm>
              <a:off x="7688160" y="3994200"/>
              <a:ext cx="186840" cy="349200"/>
              <a:chOff x="7688160" y="3994200"/>
              <a:chExt cx="186840" cy="349200"/>
            </a:xfrm>
          </p:grpSpPr>
          <p:sp>
            <p:nvSpPr>
              <p:cNvPr id="1139" name=""/>
              <p:cNvSpPr/>
              <p:nvPr/>
            </p:nvSpPr>
            <p:spPr>
              <a:xfrm>
                <a:off x="7762680" y="399420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688160" y="4201920"/>
                <a:ext cx="174240" cy="141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762680" y="40640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762680" y="41688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749720" y="42210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725960" y="42559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710120" y="4290840"/>
                <a:ext cx="11376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H="1">
                <a:off x="7721280" y="42210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691040" y="43196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>
                <a:off x="7747920" y="422280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H="1">
                <a:off x="7778160" y="422100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0" name=""/>
          <p:cNvGrpSpPr/>
          <p:nvPr/>
        </p:nvGrpSpPr>
        <p:grpSpPr>
          <a:xfrm>
            <a:off x="3741840" y="1496880"/>
            <a:ext cx="1512720" cy="936360"/>
            <a:chOff x="3741840" y="1496880"/>
            <a:chExt cx="1512720" cy="936360"/>
          </a:xfrm>
        </p:grpSpPr>
        <p:sp>
          <p:nvSpPr>
            <p:cNvPr id="1151" name=""/>
            <p:cNvSpPr/>
            <p:nvPr/>
          </p:nvSpPr>
          <p:spPr>
            <a:xfrm>
              <a:off x="3741840" y="1496880"/>
              <a:ext cx="1512720" cy="93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2" name=""/>
            <p:cNvGrpSpPr/>
            <p:nvPr/>
          </p:nvGrpSpPr>
          <p:grpSpPr>
            <a:xfrm>
              <a:off x="4757760" y="1882440"/>
              <a:ext cx="427320" cy="139680"/>
              <a:chOff x="4757760" y="1882440"/>
              <a:chExt cx="427320" cy="139680"/>
            </a:xfrm>
          </p:grpSpPr>
          <p:sp>
            <p:nvSpPr>
              <p:cNvPr id="1153" name=""/>
              <p:cNvSpPr/>
              <p:nvPr/>
            </p:nvSpPr>
            <p:spPr>
              <a:xfrm>
                <a:off x="4757760" y="1882440"/>
                <a:ext cx="123840" cy="1238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922280" y="1900080"/>
                <a:ext cx="262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NAM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" name=""/>
            <p:cNvGrpSpPr/>
            <p:nvPr/>
          </p:nvGrpSpPr>
          <p:grpSpPr>
            <a:xfrm>
              <a:off x="3781440" y="2203200"/>
              <a:ext cx="1139040" cy="193680"/>
              <a:chOff x="3781440" y="2203200"/>
              <a:chExt cx="1139040" cy="193680"/>
            </a:xfrm>
          </p:grpSpPr>
          <p:sp>
            <p:nvSpPr>
              <p:cNvPr id="1156" name=""/>
              <p:cNvSpPr/>
              <p:nvPr/>
            </p:nvSpPr>
            <p:spPr>
              <a:xfrm>
                <a:off x="3781440" y="2203200"/>
                <a:ext cx="183960" cy="193680"/>
              </a:xfrm>
              <a:prstGeom prst="flowChartSor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979440" y="2242800"/>
                <a:ext cx="941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Clam or slider (tbd.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3816360" y="1868400"/>
              <a:ext cx="846000" cy="152640"/>
              <a:chOff x="3816360" y="1868400"/>
              <a:chExt cx="846000" cy="152640"/>
            </a:xfrm>
          </p:grpSpPr>
          <p:sp>
            <p:nvSpPr>
              <p:cNvPr id="1159" name=""/>
              <p:cNvSpPr/>
              <p:nvPr/>
            </p:nvSpPr>
            <p:spPr>
              <a:xfrm>
                <a:off x="3816360" y="1876320"/>
                <a:ext cx="135000" cy="123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986640" y="1868400"/>
                <a:ext cx="675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iemens Sans"/>
                  </a:rPr>
                  <a:t>850 Varia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4471920" y="1537920"/>
              <a:ext cx="280440" cy="291960"/>
              <a:chOff x="4471920" y="1537920"/>
              <a:chExt cx="280440" cy="291960"/>
            </a:xfrm>
          </p:grpSpPr>
          <p:grpSp>
            <p:nvGrpSpPr>
              <p:cNvPr id="1162" name=""/>
              <p:cNvGrpSpPr/>
              <p:nvPr/>
            </p:nvGrpSpPr>
            <p:grpSpPr>
              <a:xfrm>
                <a:off x="4471920" y="1537920"/>
                <a:ext cx="78120" cy="291960"/>
                <a:chOff x="4471920" y="1537920"/>
                <a:chExt cx="78120" cy="29196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4471920" y="1537920"/>
                  <a:ext cx="78120" cy="291960"/>
                </a:xfrm>
                <a:custGeom>
                  <a:avLst/>
                  <a:gdLst>
                    <a:gd name="textAreaLeft" fmla="*/ 3600 w 78120"/>
                    <a:gd name="textAreaRight" fmla="*/ 74520 w 7812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0455">
                      <a:moveTo>
                        <a:pt x="3600" y="0"/>
                      </a:moveTo>
                      <a:arcTo wR="3600" hR="3600" stAng="16200000" swAng="-5400000"/>
                      <a:lnTo>
                        <a:pt x="0" y="76855"/>
                      </a:lnTo>
                      <a:arcTo wR="3600" hR="3600" stAng="10800000" swAng="-5400000"/>
                      <a:lnTo>
                        <a:pt x="18000" y="804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87b8e5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4471920" y="159624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471920" y="16840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4471920" y="17128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4471920" y="174240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4471920" y="177156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4471920" y="180072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453060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451080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449136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3" name=""/>
              <p:cNvSpPr/>
              <p:nvPr/>
            </p:nvSpPr>
            <p:spPr>
              <a:xfrm>
                <a:off x="4619160" y="1632960"/>
                <a:ext cx="133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3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4762440" y="1537920"/>
              <a:ext cx="375480" cy="291960"/>
              <a:chOff x="4762440" y="1537920"/>
              <a:chExt cx="375480" cy="291960"/>
            </a:xfrm>
          </p:grpSpPr>
          <p:grpSp>
            <p:nvGrpSpPr>
              <p:cNvPr id="1175" name=""/>
              <p:cNvGrpSpPr/>
              <p:nvPr/>
            </p:nvGrpSpPr>
            <p:grpSpPr>
              <a:xfrm>
                <a:off x="4762440" y="1537920"/>
                <a:ext cx="77040" cy="291960"/>
                <a:chOff x="4762440" y="1537920"/>
                <a:chExt cx="77040" cy="29196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4762440" y="1537920"/>
                  <a:ext cx="77040" cy="291960"/>
                </a:xfrm>
                <a:custGeom>
                  <a:avLst/>
                  <a:gdLst>
                    <a:gd name="textAreaLeft" fmla="*/ 3600 w 77040"/>
                    <a:gd name="textAreaRight" fmla="*/ 73440 w 7704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1578">
                      <a:moveTo>
                        <a:pt x="3600" y="0"/>
                      </a:moveTo>
                      <a:arcTo wR="3600" hR="3600" stAng="16200000" swAng="-5400000"/>
                      <a:lnTo>
                        <a:pt x="0" y="77978"/>
                      </a:lnTo>
                      <a:arcTo wR="3600" hR="3600" stAng="10800000" swAng="-5400000"/>
                      <a:lnTo>
                        <a:pt x="18000" y="8157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4762440" y="159624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4762440" y="16840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4762440" y="17128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4762440" y="174240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4762440" y="177156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4762440" y="180072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482004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480096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4781520" y="171288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6" name=""/>
              <p:cNvSpPr/>
              <p:nvPr/>
            </p:nvSpPr>
            <p:spPr>
              <a:xfrm>
                <a:off x="4893480" y="1632960"/>
                <a:ext cx="24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2,5 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7" name=""/>
            <p:cNvSpPr/>
            <p:nvPr/>
          </p:nvSpPr>
          <p:spPr>
            <a:xfrm>
              <a:off x="3789720" y="155376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986640" y="2064960"/>
              <a:ext cx="258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iemens Sans"/>
                </a:rPr>
                <a:t>APA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828960" y="2052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563040" y="3716280"/>
            <a:ext cx="1762200" cy="718200"/>
            <a:chOff x="563040" y="3716280"/>
            <a:chExt cx="1762200" cy="718200"/>
          </a:xfrm>
        </p:grpSpPr>
        <p:grpSp>
          <p:nvGrpSpPr>
            <p:cNvPr id="1191" name=""/>
            <p:cNvGrpSpPr/>
            <p:nvPr/>
          </p:nvGrpSpPr>
          <p:grpSpPr>
            <a:xfrm>
              <a:off x="563040" y="3716280"/>
              <a:ext cx="1762200" cy="718200"/>
              <a:chOff x="563040" y="3716280"/>
              <a:chExt cx="1762200" cy="718200"/>
            </a:xfrm>
          </p:grpSpPr>
          <p:sp>
            <p:nvSpPr>
              <p:cNvPr id="1192" name=""/>
              <p:cNvSpPr/>
              <p:nvPr/>
            </p:nvSpPr>
            <p:spPr>
              <a:xfrm>
                <a:off x="1241280" y="3825720"/>
                <a:ext cx="223920" cy="216000"/>
              </a:xfrm>
              <a:prstGeom prst="flowChartSort">
                <a:avLst/>
              </a:pr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3" name=""/>
              <p:cNvGrpSpPr/>
              <p:nvPr/>
            </p:nvGrpSpPr>
            <p:grpSpPr>
              <a:xfrm>
                <a:off x="826920" y="3825720"/>
                <a:ext cx="1498320" cy="608760"/>
                <a:chOff x="826920" y="3825720"/>
                <a:chExt cx="1498320" cy="60876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1503000" y="3825720"/>
                  <a:ext cx="822240" cy="60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Siemens Sans"/>
                    </a:rPr>
                    <a:t>CHN HWR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Siemens Sans"/>
                    </a:rPr>
                    <a:t>(TBD) (PPM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826920" y="3838320"/>
                  <a:ext cx="4777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11/0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6" name=""/>
              <p:cNvSpPr/>
              <p:nvPr/>
            </p:nvSpPr>
            <p:spPr>
              <a:xfrm>
                <a:off x="563040" y="3716280"/>
                <a:ext cx="30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ff0000"/>
                    </a:solidFill>
                    <a:latin typeface="Siemens Sans"/>
                  </a:rPr>
                  <a:t>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7" name=""/>
            <p:cNvSpPr/>
            <p:nvPr/>
          </p:nvSpPr>
          <p:spPr>
            <a:xfrm>
              <a:off x="1103400" y="394488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8" name=""/>
          <p:cNvGrpSpPr/>
          <p:nvPr/>
        </p:nvGrpSpPr>
        <p:grpSpPr>
          <a:xfrm>
            <a:off x="967320" y="4292640"/>
            <a:ext cx="1470960" cy="576360"/>
            <a:chOff x="967320" y="4292640"/>
            <a:chExt cx="1470960" cy="576360"/>
          </a:xfrm>
        </p:grpSpPr>
        <p:grpSp>
          <p:nvGrpSpPr>
            <p:cNvPr id="1199" name=""/>
            <p:cNvGrpSpPr/>
            <p:nvPr/>
          </p:nvGrpSpPr>
          <p:grpSpPr>
            <a:xfrm>
              <a:off x="967320" y="4292640"/>
              <a:ext cx="1470960" cy="576360"/>
              <a:chOff x="967320" y="4292640"/>
              <a:chExt cx="1470960" cy="57636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967320" y="4292640"/>
                <a:ext cx="1470960" cy="576360"/>
                <a:chOff x="967320" y="4292640"/>
                <a:chExt cx="1470960" cy="57636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967320" y="4292640"/>
                  <a:ext cx="334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11/0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1504800" y="4321080"/>
                  <a:ext cx="933480" cy="54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Flaming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Stylish&amp;smal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affordable slide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3" name=""/>
                <p:cNvGrpSpPr/>
                <p:nvPr/>
              </p:nvGrpSpPr>
              <p:grpSpPr>
                <a:xfrm>
                  <a:off x="1185840" y="4357800"/>
                  <a:ext cx="303120" cy="204840"/>
                  <a:chOff x="1185840" y="4357800"/>
                  <a:chExt cx="303120" cy="204840"/>
                </a:xfrm>
              </p:grpSpPr>
              <p:sp>
                <p:nvSpPr>
                  <p:cNvPr id="1204" name=""/>
                  <p:cNvSpPr/>
                  <p:nvPr/>
                </p:nvSpPr>
                <p:spPr>
                  <a:xfrm>
                    <a:off x="1185840" y="4462560"/>
                    <a:ext cx="236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1269720" y="447696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1238040" y="45007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1217520" y="452628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 flipH="1">
                    <a:off x="1231560" y="447696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1190520" y="45453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 flipH="1">
                    <a:off x="1266480" y="4478400"/>
                    <a:ext cx="76320" cy="6696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 flipH="1">
                    <a:off x="1307880" y="447696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1252440" y="4357800"/>
                    <a:ext cx="2365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1326960" y="438948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1284120" y="44341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5" name=""/>
              <p:cNvSpPr/>
              <p:nvPr/>
            </p:nvSpPr>
            <p:spPr>
              <a:xfrm>
                <a:off x="1134000" y="461952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25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6" name=""/>
            <p:cNvSpPr/>
            <p:nvPr/>
          </p:nvSpPr>
          <p:spPr>
            <a:xfrm>
              <a:off x="1008000" y="4464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597600" y="3002040"/>
            <a:ext cx="2206800" cy="426600"/>
            <a:chOff x="597600" y="3002040"/>
            <a:chExt cx="2206800" cy="426600"/>
          </a:xfrm>
        </p:grpSpPr>
        <p:sp>
          <p:nvSpPr>
            <p:cNvPr id="1218" name=""/>
            <p:cNvSpPr/>
            <p:nvPr/>
          </p:nvSpPr>
          <p:spPr>
            <a:xfrm>
              <a:off x="597600" y="300204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0000"/>
                  </a:solidFill>
                  <a:latin typeface="Siemens Sans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9" name=""/>
            <p:cNvGrpSpPr/>
            <p:nvPr/>
          </p:nvGrpSpPr>
          <p:grpSpPr>
            <a:xfrm>
              <a:off x="831240" y="3065400"/>
              <a:ext cx="1973160" cy="363240"/>
              <a:chOff x="831240" y="3065400"/>
              <a:chExt cx="1973160" cy="363240"/>
            </a:xfrm>
          </p:grpSpPr>
          <p:grpSp>
            <p:nvGrpSpPr>
              <p:cNvPr id="1220" name=""/>
              <p:cNvGrpSpPr/>
              <p:nvPr/>
            </p:nvGrpSpPr>
            <p:grpSpPr>
              <a:xfrm>
                <a:off x="831240" y="3065400"/>
                <a:ext cx="1973160" cy="304560"/>
                <a:chOff x="831240" y="3065400"/>
                <a:chExt cx="1973160" cy="30456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1517040" y="3065400"/>
                  <a:ext cx="1287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Electra MM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(TBD) (PPM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831240" y="3130560"/>
                  <a:ext cx="3344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11/0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3" name=""/>
              <p:cNvGrpSpPr/>
              <p:nvPr/>
            </p:nvGrpSpPr>
            <p:grpSpPr>
              <a:xfrm>
                <a:off x="1216800" y="3079440"/>
                <a:ext cx="187560" cy="349200"/>
                <a:chOff x="1216800" y="3079440"/>
                <a:chExt cx="187560" cy="34920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1291680" y="3079440"/>
                  <a:ext cx="112680" cy="209520"/>
                </a:xfrm>
                <a:custGeom>
                  <a:avLst/>
                  <a:gdLst>
                    <a:gd name="textAreaLeft" fmla="*/ 5400 w 112680"/>
                    <a:gd name="textAreaRight" fmla="*/ 107280 w 11268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104">
                      <a:moveTo>
                        <a:pt x="3600" y="0"/>
                      </a:moveTo>
                      <a:arcTo wR="3600" hR="3600" stAng="16200000" swAng="-5400000"/>
                      <a:lnTo>
                        <a:pt x="0" y="36504"/>
                      </a:lnTo>
                      <a:arcTo wR="3600" hR="3600" stAng="10800000" swAng="-5400000"/>
                      <a:lnTo>
                        <a:pt x="18000" y="4010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1216800" y="3287520"/>
                  <a:ext cx="17460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1291680" y="3149280"/>
                  <a:ext cx="1108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1291680" y="3254040"/>
                  <a:ext cx="1126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1278720" y="3306600"/>
                  <a:ext cx="1126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1254960" y="3341520"/>
                  <a:ext cx="1144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1239120" y="3376440"/>
                  <a:ext cx="1144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flipH="1">
                  <a:off x="1249920" y="3306600"/>
                  <a:ext cx="5724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1220040" y="3404880"/>
                  <a:ext cx="1126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>
                  <a:off x="1277280" y="3308040"/>
                  <a:ext cx="5544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flipH="1">
                  <a:off x="1305360" y="3306600"/>
                  <a:ext cx="5724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35" name=""/>
            <p:cNvSpPr/>
            <p:nvPr/>
          </p:nvSpPr>
          <p:spPr>
            <a:xfrm>
              <a:off x="1041840" y="3284640"/>
              <a:ext cx="10836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6" name=""/>
          <p:cNvSpPr/>
          <p:nvPr/>
        </p:nvSpPr>
        <p:spPr>
          <a:xfrm>
            <a:off x="2798640" y="4375080"/>
            <a:ext cx="108000" cy="1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475000" y="5533920"/>
            <a:ext cx="108000" cy="1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4280400" y="3979800"/>
            <a:ext cx="2452320" cy="675720"/>
            <a:chOff x="4280400" y="3979800"/>
            <a:chExt cx="2452320" cy="675720"/>
          </a:xfrm>
        </p:grpSpPr>
        <p:grpSp>
          <p:nvGrpSpPr>
            <p:cNvPr id="1239" name=""/>
            <p:cNvGrpSpPr/>
            <p:nvPr/>
          </p:nvGrpSpPr>
          <p:grpSpPr>
            <a:xfrm>
              <a:off x="4280400" y="3979800"/>
              <a:ext cx="2452320" cy="675720"/>
              <a:chOff x="4280400" y="3979800"/>
              <a:chExt cx="2452320" cy="675720"/>
            </a:xfrm>
          </p:grpSpPr>
          <p:grpSp>
            <p:nvGrpSpPr>
              <p:cNvPr id="1240" name=""/>
              <p:cNvGrpSpPr/>
              <p:nvPr/>
            </p:nvGrpSpPr>
            <p:grpSpPr>
              <a:xfrm>
                <a:off x="4633920" y="4119480"/>
                <a:ext cx="186840" cy="349200"/>
                <a:chOff x="4633920" y="4119480"/>
                <a:chExt cx="186840" cy="34920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4708440" y="411948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4633920" y="432756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4708440" y="418932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4708440" y="429408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4695480" y="434664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4671720" y="438156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4655880" y="441648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 flipH="1">
                  <a:off x="4667040" y="434664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4636800" y="444492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 flipH="1">
                  <a:off x="4693680" y="434808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 flipH="1">
                  <a:off x="4722480" y="434664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2" name=""/>
              <p:cNvSpPr/>
              <p:nvPr/>
            </p:nvSpPr>
            <p:spPr>
              <a:xfrm>
                <a:off x="4919760" y="4048200"/>
                <a:ext cx="18129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Nightingale</a:t>
                </a:r>
                <a:r>
                  <a:rPr b="0" lang="de-DE" sz="1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Siemens Sans"/>
                  </a:rPr>
                  <a:t>(Adonis II) (2nd ID China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Young  Music / Stereo loudsp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280400" y="420696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4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4778280" y="3979800"/>
                <a:ext cx="130320" cy="111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4583520" y="451800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25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614840" y="3992400"/>
                <a:ext cx="122400" cy="1112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>
              <a:off x="4443480" y="400536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5059800" y="4594320"/>
            <a:ext cx="1488240" cy="660600"/>
            <a:chOff x="5059800" y="4594320"/>
            <a:chExt cx="1488240" cy="660600"/>
          </a:xfrm>
        </p:grpSpPr>
        <p:grpSp>
          <p:nvGrpSpPr>
            <p:cNvPr id="1259" name=""/>
            <p:cNvGrpSpPr/>
            <p:nvPr/>
          </p:nvGrpSpPr>
          <p:grpSpPr>
            <a:xfrm>
              <a:off x="5059800" y="4594320"/>
              <a:ext cx="1488240" cy="660600"/>
              <a:chOff x="5059800" y="4594320"/>
              <a:chExt cx="1488240" cy="660600"/>
            </a:xfrm>
          </p:grpSpPr>
          <p:sp>
            <p:nvSpPr>
              <p:cNvPr id="1260" name=""/>
              <p:cNvSpPr/>
              <p:nvPr/>
            </p:nvSpPr>
            <p:spPr>
              <a:xfrm>
                <a:off x="5639400" y="4707000"/>
                <a:ext cx="908640" cy="5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Brambl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Hermes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Basic imag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059800" y="465300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5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2" name=""/>
              <p:cNvGrpSpPr/>
              <p:nvPr/>
            </p:nvGrpSpPr>
            <p:grpSpPr>
              <a:xfrm>
                <a:off x="5438520" y="4651200"/>
                <a:ext cx="109800" cy="371520"/>
                <a:chOff x="5438520" y="4651200"/>
                <a:chExt cx="109800" cy="37152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5438520" y="4651200"/>
                  <a:ext cx="109800" cy="371520"/>
                </a:xfrm>
                <a:custGeom>
                  <a:avLst/>
                  <a:gdLst>
                    <a:gd name="textAreaLeft" fmla="*/ 5040 w 109800"/>
                    <a:gd name="textAreaRight" fmla="*/ 104760 w 10980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2918">
                      <a:moveTo>
                        <a:pt x="3600" y="0"/>
                      </a:moveTo>
                      <a:arcTo wR="3600" hR="3600" stAng="16200000" swAng="-5400000"/>
                      <a:lnTo>
                        <a:pt x="0" y="69318"/>
                      </a:lnTo>
                      <a:arcTo wR="3600" hR="3600" stAng="10800000" swAng="-5400000"/>
                      <a:lnTo>
                        <a:pt x="18000" y="7291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5438520" y="472536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5438520" y="483696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5438520" y="487404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5438520" y="491112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5438520" y="494856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5438520" y="4985640"/>
                  <a:ext cx="10980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52096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549324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5465880" y="4874040"/>
                  <a:ext cx="0" cy="1112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3" name=""/>
              <p:cNvSpPr/>
              <p:nvPr/>
            </p:nvSpPr>
            <p:spPr>
              <a:xfrm>
                <a:off x="5809680" y="4594320"/>
                <a:ext cx="12996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137200" y="480528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10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5" name=""/>
            <p:cNvSpPr/>
            <p:nvPr/>
          </p:nvSpPr>
          <p:spPr>
            <a:xfrm>
              <a:off x="5642280" y="4595760"/>
              <a:ext cx="10692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7380360" y="2039760"/>
            <a:ext cx="1623960" cy="401760"/>
            <a:chOff x="7380360" y="2039760"/>
            <a:chExt cx="1623960" cy="401760"/>
          </a:xfrm>
        </p:grpSpPr>
        <p:grpSp>
          <p:nvGrpSpPr>
            <p:cNvPr id="1277" name=""/>
            <p:cNvGrpSpPr/>
            <p:nvPr/>
          </p:nvGrpSpPr>
          <p:grpSpPr>
            <a:xfrm>
              <a:off x="7444080" y="2039760"/>
              <a:ext cx="1560240" cy="401760"/>
              <a:chOff x="7444080" y="2039760"/>
              <a:chExt cx="1560240" cy="401760"/>
            </a:xfrm>
          </p:grpSpPr>
          <p:sp>
            <p:nvSpPr>
              <p:cNvPr id="1278" name=""/>
              <p:cNvSpPr/>
              <p:nvPr/>
            </p:nvSpPr>
            <p:spPr>
              <a:xfrm>
                <a:off x="7740720" y="2101680"/>
                <a:ext cx="1263600" cy="2854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Siemens Sans"/>
                  </a:rPr>
                  <a:t>Hummingbir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(Hydra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High-end sty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444080" y="228888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8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0" name=""/>
              <p:cNvGrpSpPr/>
              <p:nvPr/>
            </p:nvGrpSpPr>
            <p:grpSpPr>
              <a:xfrm>
                <a:off x="7507440" y="2039760"/>
                <a:ext cx="303120" cy="204840"/>
                <a:chOff x="7507440" y="2039760"/>
                <a:chExt cx="303120" cy="204840"/>
              </a:xfrm>
            </p:grpSpPr>
            <p:sp>
              <p:nvSpPr>
                <p:cNvPr id="1281" name=""/>
                <p:cNvSpPr/>
                <p:nvPr/>
              </p:nvSpPr>
              <p:spPr>
                <a:xfrm>
                  <a:off x="7507440" y="2144520"/>
                  <a:ext cx="236520" cy="10008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7591320" y="2158920"/>
                  <a:ext cx="1526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7559640" y="218268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7539120" y="220824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H="1">
                  <a:off x="7553160" y="2158920"/>
                  <a:ext cx="76320" cy="666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7512120" y="222732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 flipH="1">
                  <a:off x="7588080" y="2160360"/>
                  <a:ext cx="76320" cy="6696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 flipH="1">
                  <a:off x="7629480" y="2158920"/>
                  <a:ext cx="76320" cy="6660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7574040" y="2039760"/>
                  <a:ext cx="236520" cy="12384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7648560" y="207144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7605720" y="2116080"/>
                  <a:ext cx="15228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2" name=""/>
              <p:cNvSpPr/>
              <p:nvPr/>
            </p:nvSpPr>
            <p:spPr>
              <a:xfrm>
                <a:off x="7845840" y="2190600"/>
                <a:ext cx="25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80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3" name=""/>
            <p:cNvSpPr/>
            <p:nvPr/>
          </p:nvSpPr>
          <p:spPr>
            <a:xfrm>
              <a:off x="7380360" y="2060640"/>
              <a:ext cx="108000" cy="1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4727520" y="2227320"/>
            <a:ext cx="2428920" cy="551520"/>
            <a:chOff x="4727520" y="2227320"/>
            <a:chExt cx="2428920" cy="551520"/>
          </a:xfrm>
        </p:grpSpPr>
        <p:sp>
          <p:nvSpPr>
            <p:cNvPr id="1295" name=""/>
            <p:cNvSpPr/>
            <p:nvPr/>
          </p:nvSpPr>
          <p:spPr>
            <a:xfrm>
              <a:off x="6480000" y="222732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727520" y="2352600"/>
              <a:ext cx="163692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CUCKO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Busin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678720" y="228924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390000" y="2635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90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9" name=""/>
            <p:cNvGrpSpPr/>
            <p:nvPr/>
          </p:nvGrpSpPr>
          <p:grpSpPr>
            <a:xfrm>
              <a:off x="6386400" y="2349360"/>
              <a:ext cx="303480" cy="204840"/>
              <a:chOff x="6386400" y="2349360"/>
              <a:chExt cx="303480" cy="204840"/>
            </a:xfrm>
          </p:grpSpPr>
          <p:sp>
            <p:nvSpPr>
              <p:cNvPr id="1300" name=""/>
              <p:cNvSpPr/>
              <p:nvPr/>
            </p:nvSpPr>
            <p:spPr>
              <a:xfrm>
                <a:off x="6386400" y="245412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470640" y="24685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438960" y="24922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18440" y="25178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>
                <a:off x="6432480" y="24685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391440" y="253692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H="1">
                <a:off x="6467400" y="24703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H="1">
                <a:off x="6508800" y="246852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453360" y="234936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527880" y="2381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485040" y="24256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1" name=""/>
          <p:cNvGrpSpPr/>
          <p:nvPr/>
        </p:nvGrpSpPr>
        <p:grpSpPr>
          <a:xfrm>
            <a:off x="4795920" y="1773360"/>
            <a:ext cx="2347920" cy="426240"/>
            <a:chOff x="4795920" y="1773360"/>
            <a:chExt cx="2347920" cy="426240"/>
          </a:xfrm>
        </p:grpSpPr>
        <p:sp>
          <p:nvSpPr>
            <p:cNvPr id="1312" name=""/>
            <p:cNvSpPr/>
            <p:nvPr/>
          </p:nvSpPr>
          <p:spPr>
            <a:xfrm>
              <a:off x="4795920" y="1773360"/>
              <a:ext cx="15555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W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Mus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665760" y="1836720"/>
              <a:ext cx="4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706080" y="20080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2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5" name=""/>
            <p:cNvGrpSpPr/>
            <p:nvPr/>
          </p:nvGrpSpPr>
          <p:grpSpPr>
            <a:xfrm>
              <a:off x="6381720" y="1835280"/>
              <a:ext cx="302760" cy="204120"/>
              <a:chOff x="6381720" y="1835280"/>
              <a:chExt cx="302760" cy="204120"/>
            </a:xfrm>
          </p:grpSpPr>
          <p:sp>
            <p:nvSpPr>
              <p:cNvPr id="1316" name=""/>
              <p:cNvSpPr/>
              <p:nvPr/>
            </p:nvSpPr>
            <p:spPr>
              <a:xfrm>
                <a:off x="6381720" y="1939680"/>
                <a:ext cx="236160" cy="997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465600" y="19540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433920" y="197784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413400" y="200340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>
                <a:off x="6427080" y="19540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386400" y="202248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H="1">
                <a:off x="6462000" y="19558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>
                <a:off x="6503400" y="1954080"/>
                <a:ext cx="7596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448320" y="1835280"/>
                <a:ext cx="236160" cy="123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522840" y="186696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480000" y="1911240"/>
                <a:ext cx="1519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7" name=""/>
          <p:cNvGrpSpPr/>
          <p:nvPr/>
        </p:nvGrpSpPr>
        <p:grpSpPr>
          <a:xfrm>
            <a:off x="3843360" y="2682720"/>
            <a:ext cx="2124000" cy="674280"/>
            <a:chOff x="3843360" y="2682720"/>
            <a:chExt cx="2124000" cy="674280"/>
          </a:xfrm>
        </p:grpSpPr>
        <p:sp>
          <p:nvSpPr>
            <p:cNvPr id="1328" name=""/>
            <p:cNvSpPr/>
            <p:nvPr/>
          </p:nvSpPr>
          <p:spPr>
            <a:xfrm>
              <a:off x="3843360" y="2860560"/>
              <a:ext cx="16365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ROBIN (TB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C-Cla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489640" y="268272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578560" y="32194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5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1" name=""/>
            <p:cNvGrpSpPr/>
            <p:nvPr/>
          </p:nvGrpSpPr>
          <p:grpSpPr>
            <a:xfrm>
              <a:off x="5613480" y="2817720"/>
              <a:ext cx="109440" cy="371520"/>
              <a:chOff x="5613480" y="2817720"/>
              <a:chExt cx="109440" cy="371520"/>
            </a:xfrm>
          </p:grpSpPr>
          <p:sp>
            <p:nvSpPr>
              <p:cNvPr id="1332" name=""/>
              <p:cNvSpPr/>
              <p:nvPr/>
            </p:nvSpPr>
            <p:spPr>
              <a:xfrm>
                <a:off x="5613480" y="2817720"/>
                <a:ext cx="109440" cy="3715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3157">
                    <a:moveTo>
                      <a:pt x="3600" y="0"/>
                    </a:moveTo>
                    <a:arcTo wR="3600" hR="3600" stAng="16200000" swAng="-5400000"/>
                    <a:lnTo>
                      <a:pt x="0" y="69557"/>
                    </a:lnTo>
                    <a:arcTo wR="3600" hR="3600" stAng="10800000" swAng="-5400000"/>
                    <a:lnTo>
                      <a:pt x="18000" y="731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7b8e5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613480" y="28918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613480" y="30034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613480" y="30405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613480" y="30776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613480" y="31150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613480" y="31521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69556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66820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640840" y="30405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2" name=""/>
          <p:cNvGrpSpPr/>
          <p:nvPr/>
        </p:nvGrpSpPr>
        <p:grpSpPr>
          <a:xfrm>
            <a:off x="147600" y="4025880"/>
            <a:ext cx="7953120" cy="2071440"/>
            <a:chOff x="147600" y="4025880"/>
            <a:chExt cx="7953120" cy="2071440"/>
          </a:xfrm>
        </p:grpSpPr>
        <p:grpSp>
          <p:nvGrpSpPr>
            <p:cNvPr id="1343" name=""/>
            <p:cNvGrpSpPr/>
            <p:nvPr/>
          </p:nvGrpSpPr>
          <p:grpSpPr>
            <a:xfrm>
              <a:off x="3418920" y="5265720"/>
              <a:ext cx="1368360" cy="489240"/>
              <a:chOff x="3418920" y="5265720"/>
              <a:chExt cx="1368360" cy="489240"/>
            </a:xfrm>
          </p:grpSpPr>
          <p:grpSp>
            <p:nvGrpSpPr>
              <p:cNvPr id="1344" name=""/>
              <p:cNvGrpSpPr/>
              <p:nvPr/>
            </p:nvGrpSpPr>
            <p:grpSpPr>
              <a:xfrm>
                <a:off x="3418920" y="5265720"/>
                <a:ext cx="1368360" cy="489240"/>
                <a:chOff x="3418920" y="5265720"/>
                <a:chExt cx="1368360" cy="489240"/>
              </a:xfrm>
            </p:grpSpPr>
            <p:grpSp>
              <p:nvGrpSpPr>
                <p:cNvPr id="1345" name=""/>
                <p:cNvGrpSpPr/>
                <p:nvPr/>
              </p:nvGrpSpPr>
              <p:grpSpPr>
                <a:xfrm>
                  <a:off x="3418920" y="5364000"/>
                  <a:ext cx="1368360" cy="390960"/>
                  <a:chOff x="3418920" y="5364000"/>
                  <a:chExt cx="1368360" cy="390960"/>
                </a:xfrm>
              </p:grpSpPr>
              <p:sp>
                <p:nvSpPr>
                  <p:cNvPr id="1346" name=""/>
                  <p:cNvSpPr/>
                  <p:nvPr/>
                </p:nvSpPr>
                <p:spPr>
                  <a:xfrm>
                    <a:off x="3418920" y="5572080"/>
                    <a:ext cx="136836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4160"/>
                        <a:tab algn="l" pos="1768320"/>
                        <a:tab algn="l" pos="2652840"/>
                        <a:tab algn="l" pos="3537000"/>
                        <a:tab algn="l" pos="4421160"/>
                        <a:tab algn="l" pos="5305320"/>
                        <a:tab algn="l" pos="6189840"/>
                        <a:tab algn="l" pos="7074000"/>
                        <a:tab algn="l" pos="7958160"/>
                        <a:tab algn="l" pos="8842320"/>
                        <a:tab algn="l" pos="9726480"/>
                        <a:tab algn="l" pos="10611000"/>
                      </a:tabLst>
                    </a:pPr>
                    <a:r>
                      <a:rPr b="1" lang="de-DE" sz="1200" spc="-1" strike="noStrike">
                        <a:solidFill>
                          <a:srgbClr val="cc0000"/>
                        </a:solidFill>
                        <a:latin typeface="Siemens Sans"/>
                      </a:rPr>
                      <a:t>Flamingo DTC</a:t>
                    </a:r>
                    <a:r>
                      <a:rPr b="1" i="1" lang="de-DE" sz="1200" spc="-1" strike="noStrike">
                        <a:solidFill>
                          <a:srgbClr val="cc0000"/>
                        </a:solidFill>
                        <a:latin typeface="Siemens Sans"/>
                      </a:rPr>
                      <a:t>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47" name=""/>
                  <p:cNvGrpSpPr/>
                  <p:nvPr/>
                </p:nvGrpSpPr>
                <p:grpSpPr>
                  <a:xfrm>
                    <a:off x="3907800" y="5373720"/>
                    <a:ext cx="303120" cy="204840"/>
                    <a:chOff x="3907800" y="5373720"/>
                    <a:chExt cx="303120" cy="204840"/>
                  </a:xfrm>
                </p:grpSpPr>
                <p:sp>
                  <p:nvSpPr>
                    <p:cNvPr id="1348" name=""/>
                    <p:cNvSpPr/>
                    <p:nvPr/>
                  </p:nvSpPr>
                  <p:spPr>
                    <a:xfrm>
                      <a:off x="3907800" y="5478480"/>
                      <a:ext cx="23652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7" h="195">
                          <a:moveTo>
                            <a:pt x="126" y="3"/>
                          </a:moveTo>
                          <a:lnTo>
                            <a:pt x="294" y="0"/>
                          </a:lnTo>
                          <a:lnTo>
                            <a:pt x="297" y="27"/>
                          </a:lnTo>
                          <a:lnTo>
                            <a:pt x="174" y="195"/>
                          </a:lnTo>
                          <a:lnTo>
                            <a:pt x="6" y="192"/>
                          </a:lnTo>
                          <a:lnTo>
                            <a:pt x="0" y="174"/>
                          </a:lnTo>
                          <a:lnTo>
                            <a:pt x="126" y="3"/>
                          </a:lnTo>
                          <a:close/>
                        </a:path>
                      </a:pathLst>
                    </a:custGeom>
                    <a:solidFill>
                      <a:srgbClr val="ff9933"/>
                    </a:solidFill>
                    <a:ln w="9360">
                      <a:solidFill>
                        <a:srgbClr val="dddddd"/>
                      </a:solidFill>
                      <a:round/>
                    </a:ln>
                    <a:effectLst>
                      <a:outerShdw dist="36147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9" name=""/>
                    <p:cNvSpPr/>
                    <p:nvPr/>
                  </p:nvSpPr>
                  <p:spPr>
                    <a:xfrm>
                      <a:off x="3991680" y="5492880"/>
                      <a:ext cx="1526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0" name=""/>
                    <p:cNvSpPr/>
                    <p:nvPr/>
                  </p:nvSpPr>
                  <p:spPr>
                    <a:xfrm>
                      <a:off x="3960000" y="551664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1" name=""/>
                    <p:cNvSpPr/>
                    <p:nvPr/>
                  </p:nvSpPr>
                  <p:spPr>
                    <a:xfrm>
                      <a:off x="3939480" y="554220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2" name=""/>
                    <p:cNvSpPr/>
                    <p:nvPr/>
                  </p:nvSpPr>
                  <p:spPr>
                    <a:xfrm flipH="1">
                      <a:off x="3953520" y="5492880"/>
                      <a:ext cx="76320" cy="6660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3" name=""/>
                    <p:cNvSpPr/>
                    <p:nvPr/>
                  </p:nvSpPr>
                  <p:spPr>
                    <a:xfrm>
                      <a:off x="3912480" y="556128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4" name=""/>
                    <p:cNvSpPr/>
                    <p:nvPr/>
                  </p:nvSpPr>
                  <p:spPr>
                    <a:xfrm flipH="1">
                      <a:off x="3988440" y="5494320"/>
                      <a:ext cx="76320" cy="6696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5" name=""/>
                    <p:cNvSpPr/>
                    <p:nvPr/>
                  </p:nvSpPr>
                  <p:spPr>
                    <a:xfrm flipH="1">
                      <a:off x="4029840" y="5492880"/>
                      <a:ext cx="76320" cy="6660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6" name=""/>
                    <p:cNvSpPr/>
                    <p:nvPr/>
                  </p:nvSpPr>
                  <p:spPr>
                    <a:xfrm>
                      <a:off x="3974400" y="5373720"/>
                      <a:ext cx="236520" cy="12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7" h="195">
                          <a:moveTo>
                            <a:pt x="126" y="3"/>
                          </a:moveTo>
                          <a:lnTo>
                            <a:pt x="294" y="0"/>
                          </a:lnTo>
                          <a:lnTo>
                            <a:pt x="297" y="27"/>
                          </a:lnTo>
                          <a:lnTo>
                            <a:pt x="174" y="195"/>
                          </a:lnTo>
                          <a:lnTo>
                            <a:pt x="6" y="192"/>
                          </a:lnTo>
                          <a:lnTo>
                            <a:pt x="0" y="174"/>
                          </a:lnTo>
                          <a:lnTo>
                            <a:pt x="126" y="3"/>
                          </a:lnTo>
                          <a:close/>
                        </a:path>
                      </a:pathLst>
                    </a:custGeom>
                    <a:solidFill>
                      <a:srgbClr val="ff9933"/>
                    </a:solidFill>
                    <a:ln w="9360">
                      <a:solidFill>
                        <a:srgbClr val="dddddd"/>
                      </a:solidFill>
                      <a:round/>
                    </a:ln>
                    <a:effectLst>
                      <a:outerShdw dist="36147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7" name=""/>
                    <p:cNvSpPr/>
                    <p:nvPr/>
                  </p:nvSpPr>
                  <p:spPr>
                    <a:xfrm>
                      <a:off x="4048920" y="540540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8" name=""/>
                    <p:cNvSpPr/>
                    <p:nvPr/>
                  </p:nvSpPr>
                  <p:spPr>
                    <a:xfrm>
                      <a:off x="4006080" y="5450040"/>
                      <a:ext cx="15228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9" name=""/>
                  <p:cNvSpPr/>
                  <p:nvPr/>
                </p:nvSpPr>
                <p:spPr>
                  <a:xfrm>
                    <a:off x="3644280" y="5364000"/>
                    <a:ext cx="88884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4160"/>
                        <a:tab algn="l" pos="1768320"/>
                        <a:tab algn="l" pos="2652840"/>
                        <a:tab algn="l" pos="3537000"/>
                        <a:tab algn="l" pos="4421160"/>
                        <a:tab algn="l" pos="5305320"/>
                        <a:tab algn="l" pos="6189840"/>
                        <a:tab algn="l" pos="7074000"/>
                        <a:tab algn="l" pos="7958160"/>
                        <a:tab algn="l" pos="8842320"/>
                        <a:tab algn="l" pos="9726480"/>
                        <a:tab algn="l" pos="10611000"/>
                      </a:tabLst>
                    </a:pPr>
                    <a:r>
                      <a:rPr b="0" lang="de-DE" sz="1000" spc="-1" strike="noStrike">
                        <a:solidFill>
                          <a:srgbClr val="000000"/>
                        </a:solidFill>
                        <a:latin typeface="Siemens Sans"/>
                      </a:rPr>
                      <a:t>03/0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0" name=""/>
                <p:cNvSpPr/>
                <p:nvPr/>
              </p:nvSpPr>
              <p:spPr>
                <a:xfrm>
                  <a:off x="3912480" y="5265720"/>
                  <a:ext cx="108000" cy="1080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1" name=""/>
              <p:cNvSpPr/>
              <p:nvPr/>
            </p:nvSpPr>
            <p:spPr>
              <a:xfrm>
                <a:off x="4202640" y="544500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79€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147600" y="4025880"/>
              <a:ext cx="7953120" cy="2071440"/>
              <a:chOff x="147600" y="4025880"/>
              <a:chExt cx="7953120" cy="2071440"/>
            </a:xfrm>
          </p:grpSpPr>
          <p:grpSp>
            <p:nvGrpSpPr>
              <p:cNvPr id="1363" name=""/>
              <p:cNvGrpSpPr/>
              <p:nvPr/>
            </p:nvGrpSpPr>
            <p:grpSpPr>
              <a:xfrm>
                <a:off x="1943280" y="4025880"/>
                <a:ext cx="1653840" cy="406440"/>
                <a:chOff x="1943280" y="4025880"/>
                <a:chExt cx="1653840" cy="406440"/>
              </a:xfrm>
            </p:grpSpPr>
            <p:grpSp>
              <p:nvGrpSpPr>
                <p:cNvPr id="1364" name=""/>
                <p:cNvGrpSpPr/>
                <p:nvPr/>
              </p:nvGrpSpPr>
              <p:grpSpPr>
                <a:xfrm>
                  <a:off x="1943280" y="4025880"/>
                  <a:ext cx="1653840" cy="406440"/>
                  <a:chOff x="1943280" y="4025880"/>
                  <a:chExt cx="1653840" cy="406440"/>
                </a:xfrm>
              </p:grpSpPr>
              <p:grpSp>
                <p:nvGrpSpPr>
                  <p:cNvPr id="1365" name=""/>
                  <p:cNvGrpSpPr/>
                  <p:nvPr/>
                </p:nvGrpSpPr>
                <p:grpSpPr>
                  <a:xfrm>
                    <a:off x="2050920" y="4025880"/>
                    <a:ext cx="1546200" cy="406440"/>
                    <a:chOff x="2050920" y="4025880"/>
                    <a:chExt cx="1546200" cy="406440"/>
                  </a:xfrm>
                </p:grpSpPr>
                <p:grpSp>
                  <p:nvGrpSpPr>
                    <p:cNvPr id="1366" name=""/>
                    <p:cNvGrpSpPr/>
                    <p:nvPr/>
                  </p:nvGrpSpPr>
                  <p:grpSpPr>
                    <a:xfrm>
                      <a:off x="2050920" y="4025880"/>
                      <a:ext cx="187560" cy="349200"/>
                      <a:chOff x="2050920" y="4025880"/>
                      <a:chExt cx="187560" cy="349200"/>
                    </a:xfrm>
                  </p:grpSpPr>
                  <p:sp>
                    <p:nvSpPr>
                      <p:cNvPr id="1367" name=""/>
                      <p:cNvSpPr/>
                      <p:nvPr/>
                    </p:nvSpPr>
                    <p:spPr>
                      <a:xfrm>
                        <a:off x="2125800" y="4025880"/>
                        <a:ext cx="112680" cy="209520"/>
                      </a:xfrm>
                      <a:custGeom>
                        <a:avLst/>
                        <a:gdLst>
                          <a:gd name="textAreaLeft" fmla="*/ 5400 w 112680"/>
                          <a:gd name="textAreaRight" fmla="*/ 107280 w 112680"/>
                          <a:gd name="textAreaTop" fmla="*/ 5400 h 209520"/>
                          <a:gd name="textAreaBottom" fmla="*/ 204120 h 209520"/>
                        </a:gdLst>
                        <a:ahLst/>
                        <a:rect l="textAreaLeft" t="textAreaTop" r="textAreaRight" b="textAreaBottom"/>
                        <a:pathLst>
                          <a:path w="21600" h="40104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36504"/>
                            </a:lnTo>
                            <a:arcTo wR="3600" hR="3600" stAng="10800000" swAng="-5400000"/>
                            <a:lnTo>
                              <a:pt x="18000" y="40104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8" name=""/>
                      <p:cNvSpPr/>
                      <p:nvPr/>
                    </p:nvSpPr>
                    <p:spPr>
                      <a:xfrm>
                        <a:off x="2050920" y="4233960"/>
                        <a:ext cx="174600" cy="14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9" name=""/>
                      <p:cNvSpPr/>
                      <p:nvPr/>
                    </p:nvSpPr>
                    <p:spPr>
                      <a:xfrm>
                        <a:off x="2125800" y="4095720"/>
                        <a:ext cx="1108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0" name=""/>
                      <p:cNvSpPr/>
                      <p:nvPr/>
                    </p:nvSpPr>
                    <p:spPr>
                      <a:xfrm>
                        <a:off x="2125800" y="420048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1" name=""/>
                      <p:cNvSpPr/>
                      <p:nvPr/>
                    </p:nvSpPr>
                    <p:spPr>
                      <a:xfrm>
                        <a:off x="2112840" y="425304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2" name=""/>
                      <p:cNvSpPr/>
                      <p:nvPr/>
                    </p:nvSpPr>
                    <p:spPr>
                      <a:xfrm>
                        <a:off x="2089080" y="4287960"/>
                        <a:ext cx="1144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3" name=""/>
                      <p:cNvSpPr/>
                      <p:nvPr/>
                    </p:nvSpPr>
                    <p:spPr>
                      <a:xfrm>
                        <a:off x="2073240" y="4322880"/>
                        <a:ext cx="1144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4" name=""/>
                      <p:cNvSpPr/>
                      <p:nvPr/>
                    </p:nvSpPr>
                    <p:spPr>
                      <a:xfrm flipH="1">
                        <a:off x="2084040" y="4253040"/>
                        <a:ext cx="5724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5" name=""/>
                      <p:cNvSpPr/>
                      <p:nvPr/>
                    </p:nvSpPr>
                    <p:spPr>
                      <a:xfrm>
                        <a:off x="2054160" y="435132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6" name=""/>
                      <p:cNvSpPr/>
                      <p:nvPr/>
                    </p:nvSpPr>
                    <p:spPr>
                      <a:xfrm flipH="1">
                        <a:off x="2111400" y="4254480"/>
                        <a:ext cx="5544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7" name=""/>
                      <p:cNvSpPr/>
                      <p:nvPr/>
                    </p:nvSpPr>
                    <p:spPr>
                      <a:xfrm flipH="1">
                        <a:off x="2139480" y="4253040"/>
                        <a:ext cx="57240" cy="950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78" name=""/>
                    <p:cNvSpPr/>
                    <p:nvPr/>
                  </p:nvSpPr>
                  <p:spPr>
                    <a:xfrm>
                      <a:off x="2316240" y="4127760"/>
                      <a:ext cx="128088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Adonis I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(TFT, MPix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9" name=""/>
                    <p:cNvSpPr/>
                    <p:nvPr/>
                  </p:nvSpPr>
                  <p:spPr>
                    <a:xfrm>
                      <a:off x="2295000" y="402588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12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80" name=""/>
                  <p:cNvSpPr/>
                  <p:nvPr/>
                </p:nvSpPr>
                <p:spPr>
                  <a:xfrm>
                    <a:off x="1943280" y="4133880"/>
                    <a:ext cx="10764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1" name=""/>
                <p:cNvSpPr/>
                <p:nvPr/>
              </p:nvSpPr>
              <p:spPr>
                <a:xfrm>
                  <a:off x="2679120" y="4057560"/>
                  <a:ext cx="256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130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4161240" y="4730760"/>
                <a:ext cx="1561680" cy="655200"/>
                <a:chOff x="4161240" y="4730760"/>
                <a:chExt cx="1561680" cy="655200"/>
              </a:xfrm>
            </p:grpSpPr>
            <p:grpSp>
              <p:nvGrpSpPr>
                <p:cNvPr id="1383" name=""/>
                <p:cNvGrpSpPr/>
                <p:nvPr/>
              </p:nvGrpSpPr>
              <p:grpSpPr>
                <a:xfrm>
                  <a:off x="4418280" y="4730760"/>
                  <a:ext cx="1304640" cy="655200"/>
                  <a:chOff x="4418280" y="4730760"/>
                  <a:chExt cx="1304640" cy="655200"/>
                </a:xfrm>
              </p:grpSpPr>
              <p:grpSp>
                <p:nvGrpSpPr>
                  <p:cNvPr id="1384" name=""/>
                  <p:cNvGrpSpPr/>
                  <p:nvPr/>
                </p:nvGrpSpPr>
                <p:grpSpPr>
                  <a:xfrm>
                    <a:off x="4419720" y="4923000"/>
                    <a:ext cx="1303200" cy="462960"/>
                    <a:chOff x="4419720" y="4923000"/>
                    <a:chExt cx="1303200" cy="462960"/>
                  </a:xfrm>
                </p:grpSpPr>
                <p:grpSp>
                  <p:nvGrpSpPr>
                    <p:cNvPr id="1385" name=""/>
                    <p:cNvGrpSpPr/>
                    <p:nvPr/>
                  </p:nvGrpSpPr>
                  <p:grpSpPr>
                    <a:xfrm>
                      <a:off x="4419720" y="4923000"/>
                      <a:ext cx="110520" cy="371160"/>
                      <a:chOff x="4419720" y="4923000"/>
                      <a:chExt cx="110520" cy="371160"/>
                    </a:xfrm>
                  </p:grpSpPr>
                  <p:sp>
                    <p:nvSpPr>
                      <p:cNvPr id="1386" name=""/>
                      <p:cNvSpPr/>
                      <p:nvPr/>
                    </p:nvSpPr>
                    <p:spPr>
                      <a:xfrm>
                        <a:off x="4419720" y="4923000"/>
                        <a:ext cx="110520" cy="371160"/>
                      </a:xfrm>
                      <a:custGeom>
                        <a:avLst/>
                        <a:gdLst>
                          <a:gd name="textAreaLeft" fmla="*/ 5400 w 110520"/>
                          <a:gd name="textAreaRight" fmla="*/ 105120 w 110520"/>
                          <a:gd name="textAreaTop" fmla="*/ 5400 h 371160"/>
                          <a:gd name="textAreaBottom" fmla="*/ 365760 h 371160"/>
                        </a:gdLst>
                        <a:ahLst/>
                        <a:rect l="textAreaLeft" t="textAreaTop" r="textAreaRight" b="textAreaBottom"/>
                        <a:pathLst>
                          <a:path w="21600" h="72374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68774"/>
                            </a:lnTo>
                            <a:arcTo wR="3600" hR="3600" stAng="10800000" swAng="-5400000"/>
                            <a:lnTo>
                              <a:pt x="18000" y="72374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7" name=""/>
                      <p:cNvSpPr/>
                      <p:nvPr/>
                    </p:nvSpPr>
                    <p:spPr>
                      <a:xfrm>
                        <a:off x="4419720" y="499716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8" name=""/>
                      <p:cNvSpPr/>
                      <p:nvPr/>
                    </p:nvSpPr>
                    <p:spPr>
                      <a:xfrm>
                        <a:off x="4419720" y="510876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9" name=""/>
                      <p:cNvSpPr/>
                      <p:nvPr/>
                    </p:nvSpPr>
                    <p:spPr>
                      <a:xfrm>
                        <a:off x="4419720" y="514548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0" name=""/>
                      <p:cNvSpPr/>
                      <p:nvPr/>
                    </p:nvSpPr>
                    <p:spPr>
                      <a:xfrm>
                        <a:off x="4419720" y="518292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1" name=""/>
                      <p:cNvSpPr/>
                      <p:nvPr/>
                    </p:nvSpPr>
                    <p:spPr>
                      <a:xfrm>
                        <a:off x="4419720" y="522000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2" name=""/>
                      <p:cNvSpPr/>
                      <p:nvPr/>
                    </p:nvSpPr>
                    <p:spPr>
                      <a:xfrm>
                        <a:off x="4419720" y="525708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3" name=""/>
                      <p:cNvSpPr/>
                      <p:nvPr/>
                    </p:nvSpPr>
                    <p:spPr>
                      <a:xfrm>
                        <a:off x="4502520" y="514548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4" name=""/>
                      <p:cNvSpPr/>
                      <p:nvPr/>
                    </p:nvSpPr>
                    <p:spPr>
                      <a:xfrm>
                        <a:off x="4474800" y="514548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5" name=""/>
                      <p:cNvSpPr/>
                      <p:nvPr/>
                    </p:nvSpPr>
                    <p:spPr>
                      <a:xfrm>
                        <a:off x="4447440" y="514548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96" name=""/>
                    <p:cNvSpPr/>
                    <p:nvPr/>
                  </p:nvSpPr>
                  <p:spPr>
                    <a:xfrm>
                      <a:off x="4650840" y="5081400"/>
                      <a:ext cx="107208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Her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g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7" name=""/>
                    <p:cNvSpPr/>
                    <p:nvPr/>
                  </p:nvSpPr>
                  <p:spPr>
                    <a:xfrm>
                      <a:off x="4619520" y="492300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3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98" name=""/>
                  <p:cNvSpPr/>
                  <p:nvPr/>
                </p:nvSpPr>
                <p:spPr>
                  <a:xfrm>
                    <a:off x="4418280" y="4730760"/>
                    <a:ext cx="10764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9" name=""/>
                <p:cNvSpPr/>
                <p:nvPr/>
              </p:nvSpPr>
              <p:spPr>
                <a:xfrm>
                  <a:off x="4161240" y="506088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80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1223640" y="5157720"/>
                <a:ext cx="1619280" cy="545760"/>
                <a:chOff x="1223640" y="5157720"/>
                <a:chExt cx="1619280" cy="54576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1472760" y="515772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99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2" name=""/>
                <p:cNvGrpSpPr/>
                <p:nvPr/>
              </p:nvGrpSpPr>
              <p:grpSpPr>
                <a:xfrm>
                  <a:off x="1223640" y="5259240"/>
                  <a:ext cx="1619280" cy="444240"/>
                  <a:chOff x="1223640" y="5259240"/>
                  <a:chExt cx="1619280" cy="444240"/>
                </a:xfrm>
              </p:grpSpPr>
              <p:grpSp>
                <p:nvGrpSpPr>
                  <p:cNvPr id="1403" name=""/>
                  <p:cNvGrpSpPr/>
                  <p:nvPr/>
                </p:nvGrpSpPr>
                <p:grpSpPr>
                  <a:xfrm>
                    <a:off x="1329840" y="5259240"/>
                    <a:ext cx="1513080" cy="444240"/>
                    <a:chOff x="1329840" y="5259240"/>
                    <a:chExt cx="1513080" cy="444240"/>
                  </a:xfrm>
                </p:grpSpPr>
                <p:grpSp>
                  <p:nvGrpSpPr>
                    <p:cNvPr id="1404" name=""/>
                    <p:cNvGrpSpPr/>
                    <p:nvPr/>
                  </p:nvGrpSpPr>
                  <p:grpSpPr>
                    <a:xfrm>
                      <a:off x="1329840" y="5300280"/>
                      <a:ext cx="187560" cy="349200"/>
                      <a:chOff x="1329840" y="5300280"/>
                      <a:chExt cx="187560" cy="349200"/>
                    </a:xfrm>
                  </p:grpSpPr>
                  <p:sp>
                    <p:nvSpPr>
                      <p:cNvPr id="1405" name=""/>
                      <p:cNvSpPr/>
                      <p:nvPr/>
                    </p:nvSpPr>
                    <p:spPr>
                      <a:xfrm>
                        <a:off x="1404720" y="5300280"/>
                        <a:ext cx="112680" cy="209520"/>
                      </a:xfrm>
                      <a:custGeom>
                        <a:avLst/>
                        <a:gdLst>
                          <a:gd name="textAreaLeft" fmla="*/ 5400 w 112680"/>
                          <a:gd name="textAreaRight" fmla="*/ 107280 w 112680"/>
                          <a:gd name="textAreaTop" fmla="*/ 5400 h 209520"/>
                          <a:gd name="textAreaBottom" fmla="*/ 204120 h 209520"/>
                        </a:gdLst>
                        <a:ahLst/>
                        <a:rect l="textAreaLeft" t="textAreaTop" r="textAreaRight" b="textAreaBottom"/>
                        <a:pathLst>
                          <a:path w="21600" h="40104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36504"/>
                            </a:lnTo>
                            <a:arcTo wR="3600" hR="3600" stAng="10800000" swAng="-5400000"/>
                            <a:lnTo>
                              <a:pt x="18000" y="40104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6" name=""/>
                      <p:cNvSpPr/>
                      <p:nvPr/>
                    </p:nvSpPr>
                    <p:spPr>
                      <a:xfrm>
                        <a:off x="1329840" y="5508360"/>
                        <a:ext cx="174600" cy="14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7" name=""/>
                      <p:cNvSpPr/>
                      <p:nvPr/>
                    </p:nvSpPr>
                    <p:spPr>
                      <a:xfrm>
                        <a:off x="1404720" y="5370120"/>
                        <a:ext cx="1108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8" name=""/>
                      <p:cNvSpPr/>
                      <p:nvPr/>
                    </p:nvSpPr>
                    <p:spPr>
                      <a:xfrm>
                        <a:off x="1404720" y="547488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9" name=""/>
                      <p:cNvSpPr/>
                      <p:nvPr/>
                    </p:nvSpPr>
                    <p:spPr>
                      <a:xfrm>
                        <a:off x="1391760" y="552744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0" name=""/>
                      <p:cNvSpPr/>
                      <p:nvPr/>
                    </p:nvSpPr>
                    <p:spPr>
                      <a:xfrm>
                        <a:off x="1368000" y="5562360"/>
                        <a:ext cx="1144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1" name=""/>
                      <p:cNvSpPr/>
                      <p:nvPr/>
                    </p:nvSpPr>
                    <p:spPr>
                      <a:xfrm>
                        <a:off x="1352160" y="5597280"/>
                        <a:ext cx="1144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2" name=""/>
                      <p:cNvSpPr/>
                      <p:nvPr/>
                    </p:nvSpPr>
                    <p:spPr>
                      <a:xfrm flipH="1">
                        <a:off x="1362960" y="5527440"/>
                        <a:ext cx="5724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3" name=""/>
                      <p:cNvSpPr/>
                      <p:nvPr/>
                    </p:nvSpPr>
                    <p:spPr>
                      <a:xfrm>
                        <a:off x="1333080" y="5625720"/>
                        <a:ext cx="1126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4" name=""/>
                      <p:cNvSpPr/>
                      <p:nvPr/>
                    </p:nvSpPr>
                    <p:spPr>
                      <a:xfrm flipH="1">
                        <a:off x="1390320" y="5528880"/>
                        <a:ext cx="5544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5" name=""/>
                      <p:cNvSpPr/>
                      <p:nvPr/>
                    </p:nvSpPr>
                    <p:spPr>
                      <a:xfrm flipH="1">
                        <a:off x="1418400" y="5527440"/>
                        <a:ext cx="57240" cy="950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16" name=""/>
                    <p:cNvSpPr/>
                    <p:nvPr/>
                  </p:nvSpPr>
                  <p:spPr>
                    <a:xfrm>
                      <a:off x="1561680" y="5398920"/>
                      <a:ext cx="128124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Adon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New 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7" name=""/>
                    <p:cNvSpPr/>
                    <p:nvPr/>
                  </p:nvSpPr>
                  <p:spPr>
                    <a:xfrm>
                      <a:off x="1574280" y="525924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1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8" name=""/>
                  <p:cNvSpPr/>
                  <p:nvPr/>
                </p:nvSpPr>
                <p:spPr>
                  <a:xfrm>
                    <a:off x="1223640" y="5386320"/>
                    <a:ext cx="10800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19" name=""/>
              <p:cNvGrpSpPr/>
              <p:nvPr/>
            </p:nvGrpSpPr>
            <p:grpSpPr>
              <a:xfrm>
                <a:off x="6878520" y="4908600"/>
                <a:ext cx="1222200" cy="466200"/>
                <a:chOff x="6878520" y="4908600"/>
                <a:chExt cx="1222200" cy="466200"/>
              </a:xfrm>
            </p:grpSpPr>
            <p:grpSp>
              <p:nvGrpSpPr>
                <p:cNvPr id="1420" name=""/>
                <p:cNvGrpSpPr/>
                <p:nvPr/>
              </p:nvGrpSpPr>
              <p:grpSpPr>
                <a:xfrm>
                  <a:off x="6878520" y="4908600"/>
                  <a:ext cx="1222200" cy="457560"/>
                  <a:chOff x="6878520" y="4908600"/>
                  <a:chExt cx="1222200" cy="457560"/>
                </a:xfrm>
              </p:grpSpPr>
              <p:grpSp>
                <p:nvGrpSpPr>
                  <p:cNvPr id="1421" name=""/>
                  <p:cNvGrpSpPr/>
                  <p:nvPr/>
                </p:nvGrpSpPr>
                <p:grpSpPr>
                  <a:xfrm>
                    <a:off x="6878520" y="4908600"/>
                    <a:ext cx="1222200" cy="457560"/>
                    <a:chOff x="6878520" y="4908600"/>
                    <a:chExt cx="1222200" cy="457560"/>
                  </a:xfrm>
                </p:grpSpPr>
                <p:sp>
                  <p:nvSpPr>
                    <p:cNvPr id="1422" name=""/>
                    <p:cNvSpPr/>
                    <p:nvPr/>
                  </p:nvSpPr>
                  <p:spPr>
                    <a:xfrm>
                      <a:off x="6933960" y="521352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8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3" name=""/>
                    <p:cNvSpPr/>
                    <p:nvPr/>
                  </p:nvSpPr>
                  <p:spPr>
                    <a:xfrm>
                      <a:off x="6878520" y="4908600"/>
                      <a:ext cx="122220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Flaming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Came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24" name=""/>
                    <p:cNvGrpSpPr/>
                    <p:nvPr/>
                  </p:nvGrpSpPr>
                  <p:grpSpPr>
                    <a:xfrm>
                      <a:off x="7268760" y="5068800"/>
                      <a:ext cx="302400" cy="204840"/>
                      <a:chOff x="7268760" y="5068800"/>
                      <a:chExt cx="302400" cy="204840"/>
                    </a:xfrm>
                  </p:grpSpPr>
                  <p:sp>
                    <p:nvSpPr>
                      <p:cNvPr id="1425" name=""/>
                      <p:cNvSpPr/>
                      <p:nvPr/>
                    </p:nvSpPr>
                    <p:spPr>
                      <a:xfrm>
                        <a:off x="7268760" y="5173560"/>
                        <a:ext cx="23616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6" name=""/>
                      <p:cNvSpPr/>
                      <p:nvPr/>
                    </p:nvSpPr>
                    <p:spPr>
                      <a:xfrm>
                        <a:off x="7352280" y="518796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7" name=""/>
                      <p:cNvSpPr/>
                      <p:nvPr/>
                    </p:nvSpPr>
                    <p:spPr>
                      <a:xfrm>
                        <a:off x="7320600" y="521172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8" name=""/>
                      <p:cNvSpPr/>
                      <p:nvPr/>
                    </p:nvSpPr>
                    <p:spPr>
                      <a:xfrm>
                        <a:off x="7300080" y="523728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9" name=""/>
                      <p:cNvSpPr/>
                      <p:nvPr/>
                    </p:nvSpPr>
                    <p:spPr>
                      <a:xfrm flipH="1">
                        <a:off x="7313760" y="5187960"/>
                        <a:ext cx="75960" cy="6660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0" name=""/>
                      <p:cNvSpPr/>
                      <p:nvPr/>
                    </p:nvSpPr>
                    <p:spPr>
                      <a:xfrm>
                        <a:off x="7273080" y="525636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1" name=""/>
                      <p:cNvSpPr/>
                      <p:nvPr/>
                    </p:nvSpPr>
                    <p:spPr>
                      <a:xfrm flipH="1">
                        <a:off x="7348680" y="5189400"/>
                        <a:ext cx="75960" cy="6696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2" name=""/>
                      <p:cNvSpPr/>
                      <p:nvPr/>
                    </p:nvSpPr>
                    <p:spPr>
                      <a:xfrm flipH="1">
                        <a:off x="7390080" y="5187960"/>
                        <a:ext cx="75960" cy="6660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3" name=""/>
                      <p:cNvSpPr/>
                      <p:nvPr/>
                    </p:nvSpPr>
                    <p:spPr>
                      <a:xfrm>
                        <a:off x="7335000" y="5068800"/>
                        <a:ext cx="236160" cy="12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4" name=""/>
                      <p:cNvSpPr/>
                      <p:nvPr/>
                    </p:nvSpPr>
                    <p:spPr>
                      <a:xfrm>
                        <a:off x="7409520" y="510048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5" name=""/>
                      <p:cNvSpPr/>
                      <p:nvPr/>
                    </p:nvSpPr>
                    <p:spPr>
                      <a:xfrm>
                        <a:off x="7366680" y="5145120"/>
                        <a:ext cx="151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436" name=""/>
                  <p:cNvSpPr/>
                  <p:nvPr/>
                </p:nvSpPr>
                <p:spPr>
                  <a:xfrm>
                    <a:off x="7606800" y="5130720"/>
                    <a:ext cx="10764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7" name=""/>
                <p:cNvSpPr/>
                <p:nvPr/>
              </p:nvSpPr>
              <p:spPr>
                <a:xfrm>
                  <a:off x="7501680" y="523728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99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8" name=""/>
              <p:cNvGrpSpPr/>
              <p:nvPr/>
            </p:nvGrpSpPr>
            <p:grpSpPr>
              <a:xfrm>
                <a:off x="6312960" y="5300640"/>
                <a:ext cx="1787760" cy="486720"/>
                <a:chOff x="6312960" y="5300640"/>
                <a:chExt cx="1787760" cy="486720"/>
              </a:xfrm>
            </p:grpSpPr>
            <p:grpSp>
              <p:nvGrpSpPr>
                <p:cNvPr id="1439" name=""/>
                <p:cNvGrpSpPr/>
                <p:nvPr/>
              </p:nvGrpSpPr>
              <p:grpSpPr>
                <a:xfrm>
                  <a:off x="6312960" y="5300640"/>
                  <a:ext cx="1787760" cy="458280"/>
                  <a:chOff x="6312960" y="5300640"/>
                  <a:chExt cx="1787760" cy="458280"/>
                </a:xfrm>
              </p:grpSpPr>
              <p:grpSp>
                <p:nvGrpSpPr>
                  <p:cNvPr id="1440" name=""/>
                  <p:cNvGrpSpPr/>
                  <p:nvPr/>
                </p:nvGrpSpPr>
                <p:grpSpPr>
                  <a:xfrm>
                    <a:off x="6409800" y="5300640"/>
                    <a:ext cx="1690920" cy="458280"/>
                    <a:chOff x="6409800" y="5300640"/>
                    <a:chExt cx="1690920" cy="458280"/>
                  </a:xfrm>
                </p:grpSpPr>
                <p:sp>
                  <p:nvSpPr>
                    <p:cNvPr id="1441" name=""/>
                    <p:cNvSpPr/>
                    <p:nvPr/>
                  </p:nvSpPr>
                  <p:spPr>
                    <a:xfrm>
                      <a:off x="6732000" y="5454360"/>
                      <a:ext cx="136872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Flamingo DT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2nd 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42" name=""/>
                    <p:cNvGrpSpPr/>
                    <p:nvPr/>
                  </p:nvGrpSpPr>
                  <p:grpSpPr>
                    <a:xfrm>
                      <a:off x="6409800" y="5449680"/>
                      <a:ext cx="303120" cy="204840"/>
                      <a:chOff x="6409800" y="5449680"/>
                      <a:chExt cx="303120" cy="204840"/>
                    </a:xfrm>
                  </p:grpSpPr>
                  <p:sp>
                    <p:nvSpPr>
                      <p:cNvPr id="1443" name=""/>
                      <p:cNvSpPr/>
                      <p:nvPr/>
                    </p:nvSpPr>
                    <p:spPr>
                      <a:xfrm>
                        <a:off x="6409800" y="5554440"/>
                        <a:ext cx="23652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4" name=""/>
                      <p:cNvSpPr/>
                      <p:nvPr/>
                    </p:nvSpPr>
                    <p:spPr>
                      <a:xfrm>
                        <a:off x="6493680" y="5568840"/>
                        <a:ext cx="1526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5" name=""/>
                      <p:cNvSpPr/>
                      <p:nvPr/>
                    </p:nvSpPr>
                    <p:spPr>
                      <a:xfrm>
                        <a:off x="6462000" y="559260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6" name=""/>
                      <p:cNvSpPr/>
                      <p:nvPr/>
                    </p:nvSpPr>
                    <p:spPr>
                      <a:xfrm>
                        <a:off x="6441480" y="561816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7" name=""/>
                      <p:cNvSpPr/>
                      <p:nvPr/>
                    </p:nvSpPr>
                    <p:spPr>
                      <a:xfrm flipH="1">
                        <a:off x="6455520" y="5568840"/>
                        <a:ext cx="76320" cy="6660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8" name=""/>
                      <p:cNvSpPr/>
                      <p:nvPr/>
                    </p:nvSpPr>
                    <p:spPr>
                      <a:xfrm>
                        <a:off x="6414480" y="563724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9" name=""/>
                      <p:cNvSpPr/>
                      <p:nvPr/>
                    </p:nvSpPr>
                    <p:spPr>
                      <a:xfrm flipH="1">
                        <a:off x="6490440" y="5570280"/>
                        <a:ext cx="76320" cy="6696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0" name=""/>
                      <p:cNvSpPr/>
                      <p:nvPr/>
                    </p:nvSpPr>
                    <p:spPr>
                      <a:xfrm flipH="1">
                        <a:off x="6531840" y="5568840"/>
                        <a:ext cx="76320" cy="6660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1" name=""/>
                      <p:cNvSpPr/>
                      <p:nvPr/>
                    </p:nvSpPr>
                    <p:spPr>
                      <a:xfrm>
                        <a:off x="6476400" y="5449680"/>
                        <a:ext cx="236520" cy="12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ff9933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2" name=""/>
                      <p:cNvSpPr/>
                      <p:nvPr/>
                    </p:nvSpPr>
                    <p:spPr>
                      <a:xfrm>
                        <a:off x="6550920" y="548136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3" name=""/>
                      <p:cNvSpPr/>
                      <p:nvPr/>
                    </p:nvSpPr>
                    <p:spPr>
                      <a:xfrm>
                        <a:off x="6508080" y="5526000"/>
                        <a:ext cx="152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54" name=""/>
                    <p:cNvSpPr/>
                    <p:nvPr/>
                  </p:nvSpPr>
                  <p:spPr>
                    <a:xfrm>
                      <a:off x="6447960" y="5300640"/>
                      <a:ext cx="8888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6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55" name=""/>
                  <p:cNvSpPr/>
                  <p:nvPr/>
                </p:nvSpPr>
                <p:spPr>
                  <a:xfrm>
                    <a:off x="6312960" y="5468760"/>
                    <a:ext cx="10800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6" name=""/>
                <p:cNvSpPr/>
                <p:nvPr/>
              </p:nvSpPr>
              <p:spPr>
                <a:xfrm>
                  <a:off x="7084440" y="564984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79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7" name=""/>
              <p:cNvGrpSpPr/>
              <p:nvPr/>
            </p:nvGrpSpPr>
            <p:grpSpPr>
              <a:xfrm>
                <a:off x="4150080" y="5516640"/>
                <a:ext cx="1143000" cy="580680"/>
                <a:chOff x="4150080" y="5516640"/>
                <a:chExt cx="1143000" cy="580680"/>
              </a:xfrm>
            </p:grpSpPr>
            <p:grpSp>
              <p:nvGrpSpPr>
                <p:cNvPr id="1458" name=""/>
                <p:cNvGrpSpPr/>
                <p:nvPr/>
              </p:nvGrpSpPr>
              <p:grpSpPr>
                <a:xfrm>
                  <a:off x="4150080" y="5516640"/>
                  <a:ext cx="1143000" cy="580680"/>
                  <a:chOff x="4150080" y="5516640"/>
                  <a:chExt cx="1143000" cy="580680"/>
                </a:xfrm>
              </p:grpSpPr>
              <p:grpSp>
                <p:nvGrpSpPr>
                  <p:cNvPr id="1459" name=""/>
                  <p:cNvGrpSpPr/>
                  <p:nvPr/>
                </p:nvGrpSpPr>
                <p:grpSpPr>
                  <a:xfrm>
                    <a:off x="4150080" y="5516640"/>
                    <a:ext cx="1143000" cy="580680"/>
                    <a:chOff x="4150080" y="5516640"/>
                    <a:chExt cx="1143000" cy="580680"/>
                  </a:xfrm>
                </p:grpSpPr>
                <p:sp>
                  <p:nvSpPr>
                    <p:cNvPr id="1460" name=""/>
                    <p:cNvSpPr/>
                    <p:nvPr/>
                  </p:nvSpPr>
                  <p:spPr>
                    <a:xfrm>
                      <a:off x="4755960" y="551664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5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61" name=""/>
                    <p:cNvGrpSpPr/>
                    <p:nvPr/>
                  </p:nvGrpSpPr>
                  <p:grpSpPr>
                    <a:xfrm>
                      <a:off x="4859640" y="5707080"/>
                      <a:ext cx="111240" cy="371520"/>
                      <a:chOff x="4859640" y="5707080"/>
                      <a:chExt cx="111240" cy="371520"/>
                    </a:xfrm>
                  </p:grpSpPr>
                  <p:sp>
                    <p:nvSpPr>
                      <p:cNvPr id="1462" name=""/>
                      <p:cNvSpPr/>
                      <p:nvPr/>
                    </p:nvSpPr>
                    <p:spPr>
                      <a:xfrm>
                        <a:off x="4859640" y="5707080"/>
                        <a:ext cx="111240" cy="371520"/>
                      </a:xfrm>
                      <a:custGeom>
                        <a:avLst/>
                        <a:gdLst>
                          <a:gd name="textAreaLeft" fmla="*/ 5400 w 111240"/>
                          <a:gd name="textAreaRight" fmla="*/ 105840 w 111240"/>
                          <a:gd name="textAreaTop" fmla="*/ 5400 h 371520"/>
                          <a:gd name="textAreaBottom" fmla="*/ 366120 h 371520"/>
                        </a:gdLst>
                        <a:ahLst/>
                        <a:rect l="textAreaLeft" t="textAreaTop" r="textAreaRight" b="textAreaBottom"/>
                        <a:pathLst>
                          <a:path w="21600" h="71977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68377"/>
                            </a:lnTo>
                            <a:arcTo wR="3600" hR="3600" stAng="10800000" swAng="-5400000"/>
                            <a:lnTo>
                              <a:pt x="18000" y="71977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3" name=""/>
                      <p:cNvSpPr/>
                      <p:nvPr/>
                    </p:nvSpPr>
                    <p:spPr>
                      <a:xfrm>
                        <a:off x="4859640" y="578124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4" name=""/>
                      <p:cNvSpPr/>
                      <p:nvPr/>
                    </p:nvSpPr>
                    <p:spPr>
                      <a:xfrm>
                        <a:off x="4859640" y="589284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5" name=""/>
                      <p:cNvSpPr/>
                      <p:nvPr/>
                    </p:nvSpPr>
                    <p:spPr>
                      <a:xfrm>
                        <a:off x="4859640" y="592992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6" name=""/>
                      <p:cNvSpPr/>
                      <p:nvPr/>
                    </p:nvSpPr>
                    <p:spPr>
                      <a:xfrm>
                        <a:off x="4859640" y="596700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7" name=""/>
                      <p:cNvSpPr/>
                      <p:nvPr/>
                    </p:nvSpPr>
                    <p:spPr>
                      <a:xfrm>
                        <a:off x="4859640" y="600444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8" name=""/>
                      <p:cNvSpPr/>
                      <p:nvPr/>
                    </p:nvSpPr>
                    <p:spPr>
                      <a:xfrm>
                        <a:off x="4859640" y="604152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9" name=""/>
                      <p:cNvSpPr/>
                      <p:nvPr/>
                    </p:nvSpPr>
                    <p:spPr>
                      <a:xfrm>
                        <a:off x="4943160" y="592992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0" name=""/>
                      <p:cNvSpPr/>
                      <p:nvPr/>
                    </p:nvSpPr>
                    <p:spPr>
                      <a:xfrm>
                        <a:off x="4915080" y="592992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1" name=""/>
                      <p:cNvSpPr/>
                      <p:nvPr/>
                    </p:nvSpPr>
                    <p:spPr>
                      <a:xfrm>
                        <a:off x="4887360" y="592992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72" name=""/>
                    <p:cNvSpPr/>
                    <p:nvPr/>
                  </p:nvSpPr>
                  <p:spPr>
                    <a:xfrm>
                      <a:off x="4150080" y="5792760"/>
                      <a:ext cx="114300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Finch D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(Dodo colo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3" name=""/>
                  <p:cNvSpPr/>
                  <p:nvPr/>
                </p:nvSpPr>
                <p:spPr>
                  <a:xfrm>
                    <a:off x="4680360" y="5672160"/>
                    <a:ext cx="10800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74" name=""/>
                <p:cNvSpPr/>
                <p:nvPr/>
              </p:nvSpPr>
              <p:spPr>
                <a:xfrm>
                  <a:off x="4445280" y="566100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55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5" name=""/>
              <p:cNvGrpSpPr/>
              <p:nvPr/>
            </p:nvGrpSpPr>
            <p:grpSpPr>
              <a:xfrm>
                <a:off x="2998800" y="5081760"/>
                <a:ext cx="1496160" cy="519840"/>
                <a:chOff x="2998800" y="5081760"/>
                <a:chExt cx="1496160" cy="519840"/>
              </a:xfrm>
            </p:grpSpPr>
            <p:grpSp>
              <p:nvGrpSpPr>
                <p:cNvPr id="1476" name=""/>
                <p:cNvGrpSpPr/>
                <p:nvPr/>
              </p:nvGrpSpPr>
              <p:grpSpPr>
                <a:xfrm>
                  <a:off x="3030480" y="5081760"/>
                  <a:ext cx="1464480" cy="447120"/>
                  <a:chOff x="3030480" y="5081760"/>
                  <a:chExt cx="1464480" cy="447120"/>
                </a:xfrm>
              </p:grpSpPr>
              <p:grpSp>
                <p:nvGrpSpPr>
                  <p:cNvPr id="1477" name=""/>
                  <p:cNvGrpSpPr/>
                  <p:nvPr/>
                </p:nvGrpSpPr>
                <p:grpSpPr>
                  <a:xfrm>
                    <a:off x="3030480" y="5081760"/>
                    <a:ext cx="1464480" cy="447120"/>
                    <a:chOff x="3030480" y="5081760"/>
                    <a:chExt cx="1464480" cy="447120"/>
                  </a:xfrm>
                </p:grpSpPr>
                <p:grpSp>
                  <p:nvGrpSpPr>
                    <p:cNvPr id="1478" name=""/>
                    <p:cNvGrpSpPr/>
                    <p:nvPr/>
                  </p:nvGrpSpPr>
                  <p:grpSpPr>
                    <a:xfrm>
                      <a:off x="3030480" y="5081760"/>
                      <a:ext cx="110520" cy="371160"/>
                      <a:chOff x="3030480" y="5081760"/>
                      <a:chExt cx="110520" cy="371160"/>
                    </a:xfrm>
                  </p:grpSpPr>
                  <p:sp>
                    <p:nvSpPr>
                      <p:cNvPr id="1479" name=""/>
                      <p:cNvSpPr/>
                      <p:nvPr/>
                    </p:nvSpPr>
                    <p:spPr>
                      <a:xfrm>
                        <a:off x="3030480" y="5081760"/>
                        <a:ext cx="110520" cy="371160"/>
                      </a:xfrm>
                      <a:custGeom>
                        <a:avLst/>
                        <a:gdLst>
                          <a:gd name="textAreaLeft" fmla="*/ 5400 w 110520"/>
                          <a:gd name="textAreaRight" fmla="*/ 105120 w 110520"/>
                          <a:gd name="textAreaTop" fmla="*/ 5400 h 371160"/>
                          <a:gd name="textAreaBottom" fmla="*/ 365760 h 371160"/>
                        </a:gdLst>
                        <a:ahLst/>
                        <a:rect l="textAreaLeft" t="textAreaTop" r="textAreaRight" b="textAreaBottom"/>
                        <a:pathLst>
                          <a:path w="21600" h="72374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68774"/>
                            </a:lnTo>
                            <a:arcTo wR="3600" hR="3600" stAng="10800000" swAng="-5400000"/>
                            <a:lnTo>
                              <a:pt x="18000" y="72374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0" name=""/>
                      <p:cNvSpPr/>
                      <p:nvPr/>
                    </p:nvSpPr>
                    <p:spPr>
                      <a:xfrm>
                        <a:off x="3030480" y="515592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1" name=""/>
                      <p:cNvSpPr/>
                      <p:nvPr/>
                    </p:nvSpPr>
                    <p:spPr>
                      <a:xfrm>
                        <a:off x="3030480" y="526752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2" name=""/>
                      <p:cNvSpPr/>
                      <p:nvPr/>
                    </p:nvSpPr>
                    <p:spPr>
                      <a:xfrm>
                        <a:off x="3030480" y="530424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3" name=""/>
                      <p:cNvSpPr/>
                      <p:nvPr/>
                    </p:nvSpPr>
                    <p:spPr>
                      <a:xfrm>
                        <a:off x="3030480" y="534168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4" name=""/>
                      <p:cNvSpPr/>
                      <p:nvPr/>
                    </p:nvSpPr>
                    <p:spPr>
                      <a:xfrm>
                        <a:off x="3030480" y="537876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5" name=""/>
                      <p:cNvSpPr/>
                      <p:nvPr/>
                    </p:nvSpPr>
                    <p:spPr>
                      <a:xfrm>
                        <a:off x="3030480" y="541584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6" name=""/>
                      <p:cNvSpPr/>
                      <p:nvPr/>
                    </p:nvSpPr>
                    <p:spPr>
                      <a:xfrm>
                        <a:off x="3113280" y="53042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7" name=""/>
                      <p:cNvSpPr/>
                      <p:nvPr/>
                    </p:nvSpPr>
                    <p:spPr>
                      <a:xfrm>
                        <a:off x="3085560" y="53042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8" name=""/>
                      <p:cNvSpPr/>
                      <p:nvPr/>
                    </p:nvSpPr>
                    <p:spPr>
                      <a:xfrm>
                        <a:off x="3058200" y="53042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3214080" y="5224320"/>
                      <a:ext cx="128088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Fin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Musi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3198600" y="508176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2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91" name=""/>
                  <p:cNvSpPr/>
                  <p:nvPr/>
                </p:nvSpPr>
                <p:spPr>
                  <a:xfrm>
                    <a:off x="3587400" y="5113440"/>
                    <a:ext cx="10764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2" name=""/>
                <p:cNvSpPr/>
                <p:nvPr/>
              </p:nvSpPr>
              <p:spPr>
                <a:xfrm>
                  <a:off x="2998800" y="546408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75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3" name=""/>
              <p:cNvGrpSpPr/>
              <p:nvPr/>
            </p:nvGrpSpPr>
            <p:grpSpPr>
              <a:xfrm>
                <a:off x="1853640" y="5011560"/>
                <a:ext cx="972000" cy="433440"/>
                <a:chOff x="1853640" y="5011560"/>
                <a:chExt cx="972000" cy="433440"/>
              </a:xfrm>
            </p:grpSpPr>
            <p:grpSp>
              <p:nvGrpSpPr>
                <p:cNvPr id="1494" name=""/>
                <p:cNvGrpSpPr/>
                <p:nvPr/>
              </p:nvGrpSpPr>
              <p:grpSpPr>
                <a:xfrm>
                  <a:off x="1853640" y="5013360"/>
                  <a:ext cx="972000" cy="431640"/>
                  <a:chOff x="1853640" y="5013360"/>
                  <a:chExt cx="972000" cy="431640"/>
                </a:xfrm>
              </p:grpSpPr>
              <p:grpSp>
                <p:nvGrpSpPr>
                  <p:cNvPr id="1495" name=""/>
                  <p:cNvGrpSpPr/>
                  <p:nvPr/>
                </p:nvGrpSpPr>
                <p:grpSpPr>
                  <a:xfrm>
                    <a:off x="1853640" y="5013360"/>
                    <a:ext cx="972000" cy="431640"/>
                    <a:chOff x="1853640" y="5013360"/>
                    <a:chExt cx="972000" cy="431640"/>
                  </a:xfrm>
                </p:grpSpPr>
                <p:grpSp>
                  <p:nvGrpSpPr>
                    <p:cNvPr id="1496" name=""/>
                    <p:cNvGrpSpPr/>
                    <p:nvPr/>
                  </p:nvGrpSpPr>
                  <p:grpSpPr>
                    <a:xfrm>
                      <a:off x="2638800" y="5095800"/>
                      <a:ext cx="186840" cy="349200"/>
                      <a:chOff x="2638800" y="5095800"/>
                      <a:chExt cx="186840" cy="349200"/>
                    </a:xfrm>
                  </p:grpSpPr>
                  <p:sp>
                    <p:nvSpPr>
                      <p:cNvPr id="1497" name=""/>
                      <p:cNvSpPr/>
                      <p:nvPr/>
                    </p:nvSpPr>
                    <p:spPr>
                      <a:xfrm>
                        <a:off x="2713320" y="5095800"/>
                        <a:ext cx="112320" cy="209520"/>
                      </a:xfrm>
                      <a:custGeom>
                        <a:avLst/>
                        <a:gdLst>
                          <a:gd name="textAreaLeft" fmla="*/ 5400 w 112320"/>
                          <a:gd name="textAreaRight" fmla="*/ 106920 w 112320"/>
                          <a:gd name="textAreaTop" fmla="*/ 5400 h 209520"/>
                          <a:gd name="textAreaBottom" fmla="*/ 204120 h 209520"/>
                        </a:gdLst>
                        <a:ahLst/>
                        <a:rect l="textAreaLeft" t="textAreaTop" r="textAreaRight" b="textAreaBottom"/>
                        <a:pathLst>
                          <a:path w="21600" h="40233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36633"/>
                            </a:lnTo>
                            <a:arcTo wR="3600" hR="3600" stAng="10800000" swAng="-5400000"/>
                            <a:lnTo>
                              <a:pt x="18000" y="40233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8" name=""/>
                      <p:cNvSpPr/>
                      <p:nvPr/>
                    </p:nvSpPr>
                    <p:spPr>
                      <a:xfrm>
                        <a:off x="2638800" y="5303880"/>
                        <a:ext cx="174240" cy="14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7" h="195">
                            <a:moveTo>
                              <a:pt x="126" y="3"/>
                            </a:moveTo>
                            <a:lnTo>
                              <a:pt x="294" y="0"/>
                            </a:lnTo>
                            <a:lnTo>
                              <a:pt x="297" y="27"/>
                            </a:lnTo>
                            <a:lnTo>
                              <a:pt x="174" y="195"/>
                            </a:lnTo>
                            <a:lnTo>
                              <a:pt x="6" y="192"/>
                            </a:lnTo>
                            <a:lnTo>
                              <a:pt x="0" y="174"/>
                            </a:lnTo>
                            <a:lnTo>
                              <a:pt x="126" y="3"/>
                            </a:lnTo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round/>
                      </a:ln>
                      <a:effectLst>
                        <a:outerShdw dist="36147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9" name=""/>
                      <p:cNvSpPr/>
                      <p:nvPr/>
                    </p:nvSpPr>
                    <p:spPr>
                      <a:xfrm>
                        <a:off x="2713320" y="5165640"/>
                        <a:ext cx="110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0" name=""/>
                      <p:cNvSpPr/>
                      <p:nvPr/>
                    </p:nvSpPr>
                    <p:spPr>
                      <a:xfrm>
                        <a:off x="2713320" y="5270400"/>
                        <a:ext cx="112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1" name=""/>
                      <p:cNvSpPr/>
                      <p:nvPr/>
                    </p:nvSpPr>
                    <p:spPr>
                      <a:xfrm>
                        <a:off x="2700360" y="5322960"/>
                        <a:ext cx="112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2" name=""/>
                      <p:cNvSpPr/>
                      <p:nvPr/>
                    </p:nvSpPr>
                    <p:spPr>
                      <a:xfrm>
                        <a:off x="2676600" y="5357880"/>
                        <a:ext cx="114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3" name=""/>
                      <p:cNvSpPr/>
                      <p:nvPr/>
                    </p:nvSpPr>
                    <p:spPr>
                      <a:xfrm>
                        <a:off x="2660760" y="5392800"/>
                        <a:ext cx="1141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4" name=""/>
                      <p:cNvSpPr/>
                      <p:nvPr/>
                    </p:nvSpPr>
                    <p:spPr>
                      <a:xfrm flipH="1">
                        <a:off x="2671920" y="5322960"/>
                        <a:ext cx="5688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5" name=""/>
                      <p:cNvSpPr/>
                      <p:nvPr/>
                    </p:nvSpPr>
                    <p:spPr>
                      <a:xfrm>
                        <a:off x="2641680" y="5421240"/>
                        <a:ext cx="112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6" name=""/>
                      <p:cNvSpPr/>
                      <p:nvPr/>
                    </p:nvSpPr>
                    <p:spPr>
                      <a:xfrm flipH="1">
                        <a:off x="2698560" y="5324400"/>
                        <a:ext cx="55080" cy="968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7" name=""/>
                      <p:cNvSpPr/>
                      <p:nvPr/>
                    </p:nvSpPr>
                    <p:spPr>
                      <a:xfrm flipH="1">
                        <a:off x="2727360" y="5322960"/>
                        <a:ext cx="56880" cy="950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1853640" y="5103720"/>
                      <a:ext cx="75996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Leopa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EG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2356560" y="501336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01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10" name=""/>
                  <p:cNvSpPr/>
                  <p:nvPr/>
                </p:nvSpPr>
                <p:spPr>
                  <a:xfrm>
                    <a:off x="2267280" y="5300640"/>
                    <a:ext cx="10764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1" name=""/>
                <p:cNvSpPr/>
                <p:nvPr/>
              </p:nvSpPr>
              <p:spPr>
                <a:xfrm>
                  <a:off x="2101320" y="501156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75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2" name=""/>
              <p:cNvGrpSpPr/>
              <p:nvPr/>
            </p:nvGrpSpPr>
            <p:grpSpPr>
              <a:xfrm>
                <a:off x="237600" y="5013360"/>
                <a:ext cx="1573200" cy="496440"/>
                <a:chOff x="237600" y="5013360"/>
                <a:chExt cx="1573200" cy="496440"/>
              </a:xfrm>
            </p:grpSpPr>
            <p:grpSp>
              <p:nvGrpSpPr>
                <p:cNvPr id="1513" name=""/>
                <p:cNvGrpSpPr/>
                <p:nvPr/>
              </p:nvGrpSpPr>
              <p:grpSpPr>
                <a:xfrm>
                  <a:off x="237600" y="5013360"/>
                  <a:ext cx="1573200" cy="496440"/>
                  <a:chOff x="237600" y="5013360"/>
                  <a:chExt cx="1573200" cy="496440"/>
                </a:xfrm>
              </p:grpSpPr>
              <p:grpSp>
                <p:nvGrpSpPr>
                  <p:cNvPr id="1514" name=""/>
                  <p:cNvGrpSpPr/>
                  <p:nvPr/>
                </p:nvGrpSpPr>
                <p:grpSpPr>
                  <a:xfrm>
                    <a:off x="380520" y="5013360"/>
                    <a:ext cx="1430280" cy="496440"/>
                    <a:chOff x="380520" y="5013360"/>
                    <a:chExt cx="1430280" cy="496440"/>
                  </a:xfrm>
                </p:grpSpPr>
                <p:grpSp>
                  <p:nvGrpSpPr>
                    <p:cNvPr id="1515" name=""/>
                    <p:cNvGrpSpPr/>
                    <p:nvPr/>
                  </p:nvGrpSpPr>
                  <p:grpSpPr>
                    <a:xfrm>
                      <a:off x="380520" y="5013360"/>
                      <a:ext cx="111240" cy="371160"/>
                      <a:chOff x="380520" y="5013360"/>
                      <a:chExt cx="111240" cy="371160"/>
                    </a:xfrm>
                  </p:grpSpPr>
                  <p:sp>
                    <p:nvSpPr>
                      <p:cNvPr id="1516" name=""/>
                      <p:cNvSpPr/>
                      <p:nvPr/>
                    </p:nvSpPr>
                    <p:spPr>
                      <a:xfrm>
                        <a:off x="380520" y="5013360"/>
                        <a:ext cx="111240" cy="371160"/>
                      </a:xfrm>
                      <a:custGeom>
                        <a:avLst/>
                        <a:gdLst>
                          <a:gd name="textAreaLeft" fmla="*/ 5400 w 111240"/>
                          <a:gd name="textAreaRight" fmla="*/ 105840 w 111240"/>
                          <a:gd name="textAreaTop" fmla="*/ 5400 h 371160"/>
                          <a:gd name="textAreaBottom" fmla="*/ 365760 h 371160"/>
                        </a:gdLst>
                        <a:ahLst/>
                        <a:rect l="textAreaLeft" t="textAreaTop" r="textAreaRight" b="textAreaBottom"/>
                        <a:pathLst>
                          <a:path w="21600" h="71907">
                            <a:moveTo>
                              <a:pt x="3600" y="0"/>
                            </a:moveTo>
                            <a:arcTo wR="3600" hR="3600" stAng="16200000" swAng="-5400000"/>
                            <a:lnTo>
                              <a:pt x="0" y="68307"/>
                            </a:lnTo>
                            <a:arcTo wR="3600" hR="3600" stAng="10800000" swAng="-5400000"/>
                            <a:lnTo>
                              <a:pt x="18000" y="71907"/>
                            </a:lnTo>
                            <a:arcTo wR="3600" hR="3600" stAng="5400000" swAng="-5400000"/>
                            <a:lnTo>
                              <a:pt x="21600" y="3600"/>
                            </a:lnTo>
                            <a:arcTo wR="3600" hR="3600" stAng="0" swAng="-5400000"/>
                            <a:close/>
                          </a:path>
                        </a:pathLst>
                      </a:custGeom>
                      <a:solidFill>
                        <a:srgbClr val="e68d34"/>
                      </a:solidFill>
                      <a:ln w="9360">
                        <a:solidFill>
                          <a:srgbClr val="dddddd"/>
                        </a:solidFill>
                        <a:miter/>
                      </a:ln>
                      <a:effectLst>
                        <a:outerShdw dist="17819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7" name=""/>
                      <p:cNvSpPr/>
                      <p:nvPr/>
                    </p:nvSpPr>
                    <p:spPr>
                      <a:xfrm>
                        <a:off x="380520" y="508752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8" name=""/>
                      <p:cNvSpPr/>
                      <p:nvPr/>
                    </p:nvSpPr>
                    <p:spPr>
                      <a:xfrm>
                        <a:off x="380520" y="519912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9" name=""/>
                      <p:cNvSpPr/>
                      <p:nvPr/>
                    </p:nvSpPr>
                    <p:spPr>
                      <a:xfrm>
                        <a:off x="380520" y="523584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0" name=""/>
                      <p:cNvSpPr/>
                      <p:nvPr/>
                    </p:nvSpPr>
                    <p:spPr>
                      <a:xfrm>
                        <a:off x="380520" y="527328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1" name=""/>
                      <p:cNvSpPr/>
                      <p:nvPr/>
                    </p:nvSpPr>
                    <p:spPr>
                      <a:xfrm>
                        <a:off x="380520" y="531036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2" name=""/>
                      <p:cNvSpPr/>
                      <p:nvPr/>
                    </p:nvSpPr>
                    <p:spPr>
                      <a:xfrm>
                        <a:off x="380520" y="5347440"/>
                        <a:ext cx="111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-46800" bIns="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3" name=""/>
                      <p:cNvSpPr/>
                      <p:nvPr/>
                    </p:nvSpPr>
                    <p:spPr>
                      <a:xfrm>
                        <a:off x="464040" y="52358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4" name=""/>
                      <p:cNvSpPr/>
                      <p:nvPr/>
                    </p:nvSpPr>
                    <p:spPr>
                      <a:xfrm>
                        <a:off x="435960" y="52358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5" name=""/>
                      <p:cNvSpPr/>
                      <p:nvPr/>
                    </p:nvSpPr>
                    <p:spPr>
                      <a:xfrm>
                        <a:off x="408240" y="5235840"/>
                        <a:ext cx="0" cy="111240"/>
                      </a:xfrm>
                      <a:prstGeom prst="line">
                        <a:avLst/>
                      </a:prstGeom>
                      <a:ln w="9360">
                        <a:solidFill>
                          <a:srgbClr val="ddddd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26" name=""/>
                    <p:cNvSpPr/>
                    <p:nvPr/>
                  </p:nvSpPr>
                  <p:spPr>
                    <a:xfrm>
                      <a:off x="522360" y="5064120"/>
                      <a:ext cx="33444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Siemens Sans"/>
                        </a:rPr>
                        <a:t>10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7" name=""/>
                    <p:cNvSpPr/>
                    <p:nvPr/>
                  </p:nvSpPr>
                  <p:spPr>
                    <a:xfrm>
                      <a:off x="529920" y="5205240"/>
                      <a:ext cx="1280880" cy="304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lang="de-DE" sz="12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Her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4160"/>
                          <a:tab algn="l" pos="1768320"/>
                          <a:tab algn="l" pos="2652840"/>
                          <a:tab algn="l" pos="3537000"/>
                          <a:tab algn="l" pos="4421160"/>
                          <a:tab algn="l" pos="5305320"/>
                          <a:tab algn="l" pos="6189840"/>
                          <a:tab algn="l" pos="7074000"/>
                          <a:tab algn="l" pos="7958160"/>
                          <a:tab algn="l" pos="8842320"/>
                          <a:tab algn="l" pos="9726480"/>
                          <a:tab algn="l" pos="10611000"/>
                        </a:tabLst>
                      </a:pPr>
                      <a:r>
                        <a:rPr b="1" i="1" lang="de-DE" sz="800" spc="-1" strike="noStrike">
                          <a:solidFill>
                            <a:srgbClr val="cc0000"/>
                          </a:solidFill>
                          <a:latin typeface="Siemens Sans"/>
                        </a:rPr>
                        <a:t>VG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28" name=""/>
                  <p:cNvSpPr/>
                  <p:nvPr/>
                </p:nvSpPr>
                <p:spPr>
                  <a:xfrm>
                    <a:off x="237600" y="5157720"/>
                    <a:ext cx="108000" cy="1080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9" name=""/>
                <p:cNvSpPr/>
                <p:nvPr/>
              </p:nvSpPr>
              <p:spPr>
                <a:xfrm>
                  <a:off x="853560" y="518328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79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0" name=""/>
              <p:cNvGrpSpPr/>
              <p:nvPr/>
            </p:nvGrpSpPr>
            <p:grpSpPr>
              <a:xfrm>
                <a:off x="147600" y="4389480"/>
                <a:ext cx="1490760" cy="507960"/>
                <a:chOff x="147600" y="4389480"/>
                <a:chExt cx="1490760" cy="507960"/>
              </a:xfrm>
            </p:grpSpPr>
            <p:grpSp>
              <p:nvGrpSpPr>
                <p:cNvPr id="1531" name=""/>
                <p:cNvGrpSpPr/>
                <p:nvPr/>
              </p:nvGrpSpPr>
              <p:grpSpPr>
                <a:xfrm>
                  <a:off x="212760" y="4400640"/>
                  <a:ext cx="1425600" cy="496800"/>
                  <a:chOff x="212760" y="4400640"/>
                  <a:chExt cx="1425600" cy="496800"/>
                </a:xfrm>
              </p:grpSpPr>
              <p:grpSp>
                <p:nvGrpSpPr>
                  <p:cNvPr id="1532" name=""/>
                  <p:cNvGrpSpPr/>
                  <p:nvPr/>
                </p:nvGrpSpPr>
                <p:grpSpPr>
                  <a:xfrm>
                    <a:off x="212760" y="4525920"/>
                    <a:ext cx="111240" cy="371520"/>
                    <a:chOff x="212760" y="4525920"/>
                    <a:chExt cx="111240" cy="371520"/>
                  </a:xfrm>
                </p:grpSpPr>
                <p:sp>
                  <p:nvSpPr>
                    <p:cNvPr id="1533" name=""/>
                    <p:cNvSpPr/>
                    <p:nvPr/>
                  </p:nvSpPr>
                  <p:spPr>
                    <a:xfrm>
                      <a:off x="212760" y="4525920"/>
                      <a:ext cx="111240" cy="371520"/>
                    </a:xfrm>
                    <a:custGeom>
                      <a:avLst/>
                      <a:gdLst>
                        <a:gd name="textAreaLeft" fmla="*/ 5400 w 111240"/>
                        <a:gd name="textAreaRight" fmla="*/ 105840 w 111240"/>
                        <a:gd name="textAreaTop" fmla="*/ 5400 h 371520"/>
                        <a:gd name="textAreaBottom" fmla="*/ 366120 h 371520"/>
                      </a:gdLst>
                      <a:ahLst/>
                      <a:rect l="textAreaLeft" t="textAreaTop" r="textAreaRight" b="textAreaBottom"/>
                      <a:pathLst>
                        <a:path w="21600" h="71977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68377"/>
                          </a:lnTo>
                          <a:arcTo wR="3600" hR="3600" stAng="10800000" swAng="-5400000"/>
                          <a:lnTo>
                            <a:pt x="18000" y="71977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e68d34"/>
                    </a:solidFill>
                    <a:ln w="9360">
                      <a:solidFill>
                        <a:srgbClr val="dddddd"/>
                      </a:solidFill>
                      <a:miter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212760" y="460008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212760" y="471168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6" name=""/>
                    <p:cNvSpPr/>
                    <p:nvPr/>
                  </p:nvSpPr>
                  <p:spPr>
                    <a:xfrm>
                      <a:off x="212760" y="474876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212760" y="478584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212760" y="482328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212760" y="4860360"/>
                      <a:ext cx="111240" cy="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-46800" bIns="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>
                      <a:off x="296280" y="4748760"/>
                      <a:ext cx="0" cy="11124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1" name=""/>
                    <p:cNvSpPr/>
                    <p:nvPr/>
                  </p:nvSpPr>
                  <p:spPr>
                    <a:xfrm>
                      <a:off x="268200" y="4748760"/>
                      <a:ext cx="0" cy="11124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2" name=""/>
                    <p:cNvSpPr/>
                    <p:nvPr/>
                  </p:nvSpPr>
                  <p:spPr>
                    <a:xfrm>
                      <a:off x="240480" y="4748760"/>
                      <a:ext cx="0" cy="111240"/>
                    </a:xfrm>
                    <a:prstGeom prst="line">
                      <a:avLst/>
                    </a:prstGeom>
                    <a:ln w="9360">
                      <a:solidFill>
                        <a:srgbClr val="ddddd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43" name=""/>
                  <p:cNvSpPr/>
                  <p:nvPr/>
                </p:nvSpPr>
                <p:spPr>
                  <a:xfrm>
                    <a:off x="357120" y="4700520"/>
                    <a:ext cx="1281240" cy="182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884160"/>
                        <a:tab algn="l" pos="1768320"/>
                        <a:tab algn="l" pos="2652840"/>
                        <a:tab algn="l" pos="3537000"/>
                        <a:tab algn="l" pos="4421160"/>
                        <a:tab algn="l" pos="5305320"/>
                        <a:tab algn="l" pos="6189840"/>
                        <a:tab algn="l" pos="7074000"/>
                        <a:tab algn="l" pos="7958160"/>
                        <a:tab algn="l" pos="8842320"/>
                        <a:tab algn="l" pos="9726480"/>
                        <a:tab algn="l" pos="10611000"/>
                      </a:tabLst>
                    </a:pPr>
                    <a:r>
                      <a:rPr b="1" lang="de-DE" sz="1200" spc="-1" strike="noStrike">
                        <a:solidFill>
                          <a:srgbClr val="000000"/>
                        </a:solidFill>
                        <a:latin typeface="Siemens Sans"/>
                      </a:rPr>
                      <a:t>Herm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384480" y="4541760"/>
                    <a:ext cx="334440" cy="15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1000" spc="-1" strike="noStrike">
                        <a:solidFill>
                          <a:srgbClr val="000000"/>
                        </a:solidFill>
                        <a:latin typeface="Siemens Sans"/>
                      </a:rPr>
                      <a:t>09/0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395280" y="4400640"/>
                    <a:ext cx="108000" cy="10764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6" name=""/>
                <p:cNvSpPr/>
                <p:nvPr/>
              </p:nvSpPr>
              <p:spPr>
                <a:xfrm>
                  <a:off x="147600" y="4389480"/>
                  <a:ext cx="1926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95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47" name=""/>
          <p:cNvGrpSpPr/>
          <p:nvPr/>
        </p:nvGrpSpPr>
        <p:grpSpPr>
          <a:xfrm>
            <a:off x="5303880" y="5151600"/>
            <a:ext cx="923400" cy="422280"/>
            <a:chOff x="5303880" y="5151600"/>
            <a:chExt cx="923400" cy="422280"/>
          </a:xfrm>
        </p:grpSpPr>
        <p:grpSp>
          <p:nvGrpSpPr>
            <p:cNvPr id="1548" name=""/>
            <p:cNvGrpSpPr/>
            <p:nvPr/>
          </p:nvGrpSpPr>
          <p:grpSpPr>
            <a:xfrm>
              <a:off x="5376600" y="5151600"/>
              <a:ext cx="850680" cy="422280"/>
              <a:chOff x="5376600" y="5151600"/>
              <a:chExt cx="850680" cy="422280"/>
            </a:xfrm>
          </p:grpSpPr>
          <p:sp>
            <p:nvSpPr>
              <p:cNvPr id="1549" name=""/>
              <p:cNvSpPr/>
              <p:nvPr/>
            </p:nvSpPr>
            <p:spPr>
              <a:xfrm>
                <a:off x="5651280" y="5157720"/>
                <a:ext cx="5760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1200" spc="-1" strike="noStrike">
                    <a:solidFill>
                      <a:srgbClr val="cc0000"/>
                    </a:solidFill>
                    <a:latin typeface="Siemens Sans"/>
                  </a:rPr>
                  <a:t>Siski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en-GB" sz="800" spc="-1" strike="noStrike">
                    <a:solidFill>
                      <a:srgbClr val="cc0000"/>
                    </a:solidFill>
                    <a:latin typeface="Siemens Sans"/>
                  </a:rPr>
                  <a:t>2nd I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651280" y="5421240"/>
                <a:ext cx="477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5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1" name=""/>
              <p:cNvGrpSpPr/>
              <p:nvPr/>
            </p:nvGrpSpPr>
            <p:grpSpPr>
              <a:xfrm>
                <a:off x="5376600" y="5151600"/>
                <a:ext cx="186840" cy="349200"/>
                <a:chOff x="5376600" y="5151600"/>
                <a:chExt cx="186840" cy="349200"/>
              </a:xfrm>
            </p:grpSpPr>
            <p:sp>
              <p:nvSpPr>
                <p:cNvPr id="1552" name=""/>
                <p:cNvSpPr/>
                <p:nvPr/>
              </p:nvSpPr>
              <p:spPr>
                <a:xfrm>
                  <a:off x="5451120" y="515160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5376600" y="535968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5451120" y="522144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5451120" y="532620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5438160" y="537876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5414400" y="541368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5398560" y="544860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 flipH="1">
                  <a:off x="5409720" y="537876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5379480" y="547704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flipH="1">
                  <a:off x="5436360" y="538020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 flipH="1">
                  <a:off x="5465160" y="537876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63" name=""/>
            <p:cNvSpPr/>
            <p:nvPr/>
          </p:nvSpPr>
          <p:spPr>
            <a:xfrm>
              <a:off x="5303880" y="5229360"/>
              <a:ext cx="108000" cy="107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4114800" y="3200400"/>
            <a:ext cx="1851120" cy="734400"/>
            <a:chOff x="4114800" y="3200400"/>
            <a:chExt cx="1851120" cy="734400"/>
          </a:xfrm>
        </p:grpSpPr>
        <p:grpSp>
          <p:nvGrpSpPr>
            <p:cNvPr id="1565" name=""/>
            <p:cNvGrpSpPr/>
            <p:nvPr/>
          </p:nvGrpSpPr>
          <p:grpSpPr>
            <a:xfrm>
              <a:off x="4114800" y="3200400"/>
              <a:ext cx="1851120" cy="734400"/>
              <a:chOff x="4114800" y="3200400"/>
              <a:chExt cx="1851120" cy="734400"/>
            </a:xfrm>
          </p:grpSpPr>
          <p:grpSp>
            <p:nvGrpSpPr>
              <p:cNvPr id="1566" name=""/>
              <p:cNvGrpSpPr/>
              <p:nvPr/>
            </p:nvGrpSpPr>
            <p:grpSpPr>
              <a:xfrm>
                <a:off x="4114800" y="3200400"/>
                <a:ext cx="1851120" cy="734400"/>
                <a:chOff x="4114800" y="3200400"/>
                <a:chExt cx="1851120" cy="73440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4597560" y="3291120"/>
                  <a:ext cx="1368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Swif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(</a:t>
                  </a:r>
                  <a:r>
                    <a:rPr b="0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Minos II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8" name=""/>
                <p:cNvGrpSpPr/>
                <p:nvPr/>
              </p:nvGrpSpPr>
              <p:grpSpPr>
                <a:xfrm>
                  <a:off x="4233960" y="3484800"/>
                  <a:ext cx="303120" cy="204120"/>
                  <a:chOff x="4233960" y="3484800"/>
                  <a:chExt cx="303120" cy="204120"/>
                </a:xfrm>
              </p:grpSpPr>
              <p:sp>
                <p:nvSpPr>
                  <p:cNvPr id="1569" name=""/>
                  <p:cNvSpPr/>
                  <p:nvPr/>
                </p:nvSpPr>
                <p:spPr>
                  <a:xfrm>
                    <a:off x="4233960" y="3589200"/>
                    <a:ext cx="23652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4317840" y="3603600"/>
                    <a:ext cx="1526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4286160" y="36273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4265640" y="36529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 flipH="1">
                    <a:off x="4279680" y="3603600"/>
                    <a:ext cx="76320" cy="66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4238640" y="367200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"/>
                  <p:cNvSpPr/>
                  <p:nvPr/>
                </p:nvSpPr>
                <p:spPr>
                  <a:xfrm flipH="1">
                    <a:off x="4314600" y="3605040"/>
                    <a:ext cx="76320" cy="6660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 flipH="1">
                    <a:off x="4356000" y="3603600"/>
                    <a:ext cx="76320" cy="66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>
                    <a:off x="4300560" y="3484800"/>
                    <a:ext cx="23652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195">
                        <a:moveTo>
                          <a:pt x="126" y="3"/>
                        </a:moveTo>
                        <a:lnTo>
                          <a:pt x="294" y="0"/>
                        </a:lnTo>
                        <a:lnTo>
                          <a:pt x="297" y="27"/>
                        </a:lnTo>
                        <a:lnTo>
                          <a:pt x="174" y="195"/>
                        </a:lnTo>
                        <a:lnTo>
                          <a:pt x="6" y="192"/>
                        </a:lnTo>
                        <a:lnTo>
                          <a:pt x="0" y="174"/>
                        </a:lnTo>
                        <a:lnTo>
                          <a:pt x="126" y="3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dddddd"/>
                    </a:solidFill>
                    <a:round/>
                  </a:ln>
                  <a:effectLst>
                    <a:outerShdw dist="36147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4375080" y="351612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4332240" y="3560760"/>
                    <a:ext cx="15228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0" name=""/>
                <p:cNvSpPr/>
                <p:nvPr/>
              </p:nvSpPr>
              <p:spPr>
                <a:xfrm>
                  <a:off x="4114800" y="3225960"/>
                  <a:ext cx="88884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3/0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4513320" y="3200400"/>
                  <a:ext cx="122040" cy="111240"/>
                </a:xfrm>
                <a:prstGeom prst="ellipse">
                  <a:avLst/>
                </a:prstGeom>
                <a:solidFill>
                  <a:srgbClr val="8c94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4159440" y="3797280"/>
                  <a:ext cx="2566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150€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4597560" y="3594240"/>
                  <a:ext cx="13316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1ID: Multimedia;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1ID: Busines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4" name=""/>
              <p:cNvSpPr/>
              <p:nvPr/>
            </p:nvSpPr>
            <p:spPr>
              <a:xfrm>
                <a:off x="4659480" y="3208320"/>
                <a:ext cx="107640" cy="108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5" name=""/>
            <p:cNvSpPr/>
            <p:nvPr/>
          </p:nvSpPr>
          <p:spPr>
            <a:xfrm>
              <a:off x="4802040" y="321156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"/>
          <p:cNvSpPr/>
          <p:nvPr/>
        </p:nvSpPr>
        <p:spPr>
          <a:xfrm>
            <a:off x="203040" y="71280"/>
            <a:ext cx="7391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-Release Plan SG2-Platform - Time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7" name="" descr=""/>
          <p:cNvPicPr/>
          <p:nvPr/>
        </p:nvPicPr>
        <p:blipFill>
          <a:blip r:embed="rId1"/>
          <a:stretch/>
        </p:blipFill>
        <p:spPr>
          <a:xfrm>
            <a:off x="412920" y="1444680"/>
            <a:ext cx="8543880" cy="5103720"/>
          </a:xfrm>
          <a:prstGeom prst="rect">
            <a:avLst/>
          </a:prstGeom>
          <a:ln w="0">
            <a:noFill/>
          </a:ln>
        </p:spPr>
      </p:pic>
      <p:sp>
        <p:nvSpPr>
          <p:cNvPr id="1588" name=""/>
          <p:cNvSpPr/>
          <p:nvPr/>
        </p:nvSpPr>
        <p:spPr>
          <a:xfrm>
            <a:off x="4726080" y="5759280"/>
            <a:ext cx="3284280" cy="17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36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321680" y="5943600"/>
            <a:ext cx="1079280" cy="179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MCL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76200" y="5759280"/>
            <a:ext cx="4349880" cy="1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36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76200" y="5581800"/>
            <a:ext cx="1079640" cy="179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MC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2" name=""/>
          <p:cNvGrpSpPr/>
          <p:nvPr/>
        </p:nvGrpSpPr>
        <p:grpSpPr>
          <a:xfrm>
            <a:off x="4265640" y="5938920"/>
            <a:ext cx="983880" cy="447480"/>
            <a:chOff x="4265640" y="5938920"/>
            <a:chExt cx="983880" cy="447480"/>
          </a:xfrm>
        </p:grpSpPr>
        <p:sp>
          <p:nvSpPr>
            <p:cNvPr id="1593" name=""/>
            <p:cNvSpPr/>
            <p:nvPr/>
          </p:nvSpPr>
          <p:spPr>
            <a:xfrm>
              <a:off x="4265640" y="5938920"/>
              <a:ext cx="983880" cy="223560"/>
            </a:xfrm>
            <a:custGeom>
              <a:avLst/>
              <a:gdLst>
                <a:gd name="textAreaLeft" fmla="*/ 172080 w 983880"/>
                <a:gd name="textAreaRight" fmla="*/ 713520 w 983880"/>
                <a:gd name="textAreaTop" fmla="*/ 29880 h 223560"/>
                <a:gd name="textAreaBottom" fmla="*/ 193680 h 22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bad1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363560" y="6081480"/>
              <a:ext cx="832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b5d"/>
                  </a:solidFill>
                  <a:latin typeface="Arial"/>
                </a:rPr>
                <a:t>Hand-o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5" name=""/>
          <p:cNvSpPr/>
          <p:nvPr/>
        </p:nvSpPr>
        <p:spPr>
          <a:xfrm>
            <a:off x="1595520" y="5762520"/>
            <a:ext cx="12603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580000" y="5762520"/>
            <a:ext cx="1258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"/>
          <p:cNvSpPr/>
          <p:nvPr/>
        </p:nvSpPr>
        <p:spPr>
          <a:xfrm>
            <a:off x="2708640" y="3157560"/>
            <a:ext cx="328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Load Chart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C faces a very critical situation – securing SG2 and future topics with budget &amp; HC cut impossib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285120" y="1085760"/>
            <a:ext cx="4591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* for SG2 Release (optimized) and future topic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551840" y="6540480"/>
            <a:ext cx="186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HC and consultants w/o Mana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833600" y="4270320"/>
            <a:ext cx="51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06 H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7757280" y="3063960"/>
            <a:ext cx="1122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20 Cons./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‘ Cons. c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3" name="" descr=""/>
          <p:cNvPicPr/>
          <p:nvPr/>
        </p:nvPicPr>
        <p:blipFill>
          <a:blip r:embed="rId1"/>
          <a:stretch/>
        </p:blipFill>
        <p:spPr>
          <a:xfrm>
            <a:off x="412920" y="1353960"/>
            <a:ext cx="8399160" cy="5156280"/>
          </a:xfrm>
          <a:prstGeom prst="rect">
            <a:avLst/>
          </a:prstGeom>
          <a:ln w="0">
            <a:noFill/>
          </a:ln>
        </p:spPr>
      </p:pic>
      <p:sp>
        <p:nvSpPr>
          <p:cNvPr id="1604" name=""/>
          <p:cNvSpPr/>
          <p:nvPr/>
        </p:nvSpPr>
        <p:spPr>
          <a:xfrm>
            <a:off x="2679840" y="1359000"/>
            <a:ext cx="2832120" cy="917640"/>
          </a:xfrm>
          <a:prstGeom prst="rect">
            <a:avLst/>
          </a:prstGeom>
          <a:solidFill>
            <a:srgbClr val="c0c0c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7840" indent="-1778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ture Topic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G operator features dela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2 Rel. 2&amp;3 optim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"/>
          <p:cNvSpPr/>
          <p:nvPr/>
        </p:nvSpPr>
        <p:spPr>
          <a:xfrm>
            <a:off x="1743480" y="3157560"/>
            <a:ext cx="58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R&amp;D Skills Distribu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0720" y="177840"/>
            <a:ext cx="6553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kill Distribution o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7" name=""/>
          <p:cNvGraphicFramePr/>
          <p:nvPr/>
        </p:nvGraphicFramePr>
        <p:xfrm>
          <a:off x="260280" y="1427040"/>
          <a:ext cx="8661600" cy="46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427040"/>
                    <a:ext cx="866160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0840" y="4141800"/>
            <a:ext cx="8821800" cy="2460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6680" y="1168560"/>
            <a:ext cx="8821800" cy="1349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2671560" y="2702880"/>
            <a:ext cx="4252680" cy="1189080"/>
          </a:xfrm>
          <a:prstGeom prst="flowChartExtra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0920" y="353880"/>
            <a:ext cx="59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use 65 Generation (Uwe Syd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720" y="1246320"/>
            <a:ext cx="86115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urrent weaknes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sig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orm factor/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eap locking fin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eatur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ack of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s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xpensive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trategy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actic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attempt to fit to operator program (e. g. VF life), ther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y below 200 € thres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ssive cost reduction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-package dedicated products to shrink in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troduce music by building MP3-player into headset plug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introducing UI into 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Keeping SK65 and S65 as flagship by upgrading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IM 4.0; Space 2 go, MP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1316160" y="-824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37800" y="38466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66800" y="248436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ition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53040" y="25336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66800" y="288432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"/>
          <p:cNvSpPr/>
          <p:nvPr/>
        </p:nvSpPr>
        <p:spPr>
          <a:xfrm>
            <a:off x="2225160" y="3157560"/>
            <a:ext cx="457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Planning Proces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"/>
          <p:cNvSpPr/>
          <p:nvPr/>
        </p:nvSpPr>
        <p:spPr>
          <a:xfrm flipH="1">
            <a:off x="2543040" y="3494160"/>
            <a:ext cx="109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pportun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430320" y="3494160"/>
            <a:ext cx="58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Thre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8407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 resource transparence is giv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1468440" y="2157480"/>
            <a:ext cx="56865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enario and Budget planning incl. HC in the PMC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193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MC delivers the load and budget overview (pl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jects from M0/C0/P0 onwards in P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193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V delivers the exact project overview &amp; critical path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768240" y="5429160"/>
            <a:ext cx="7896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able  approach used by other Siemens un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1460520" y="2616120"/>
            <a:ext cx="29196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1460520" y="3720960"/>
            <a:ext cx="29196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MC covers the Budget and Scenario planning, Primavera the Project pl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784080" y="3780000"/>
            <a:ext cx="60984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nning /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pec. draf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395360" y="3780000"/>
            <a:ext cx="61128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pec. freez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2006640" y="3780000"/>
            <a:ext cx="122076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. samples avail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27400" y="3780000"/>
            <a:ext cx="8827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amples test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4110120" y="3780000"/>
            <a:ext cx="183024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final samples avail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940360" y="3780000"/>
            <a:ext cx="21733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cceptance from platfomr / product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to predevelopment projec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84080" y="3538440"/>
            <a:ext cx="7937640" cy="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62280" bIns="-62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325520" y="350352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63188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93824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24640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255276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85912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16548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471840" y="3511440"/>
            <a:ext cx="698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78000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08636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439272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69908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00544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31324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61960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592596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23268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53904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84684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15320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459560" y="35193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776592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8069400" y="351648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96848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766880" y="3108240"/>
            <a:ext cx="577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1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225440" y="310824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36224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871800" y="3114720"/>
            <a:ext cx="577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2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773680" y="3108240"/>
            <a:ext cx="4399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11624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95152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8485200" y="311472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22596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024360" y="3108240"/>
            <a:ext cx="4410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910640" y="3114720"/>
            <a:ext cx="542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3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808992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8112240" y="3780000"/>
            <a:ext cx="6109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ainance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682560" y="311472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84080" y="337032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822240" y="4035600"/>
            <a:ext cx="55944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* Based on a draft version of the HW predevelopment 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752560" y="5896080"/>
            <a:ext cx="64756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ote: Component Projects can be started whenever necess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211400" y="4881600"/>
            <a:ext cx="515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728720" y="4881600"/>
            <a:ext cx="515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244600" y="4881600"/>
            <a:ext cx="103356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Implement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78160" y="4881600"/>
            <a:ext cx="74772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Test 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Ready for Integ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025880" y="4881600"/>
            <a:ext cx="1550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225960" y="4610160"/>
            <a:ext cx="5868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005360" y="4614840"/>
            <a:ext cx="5868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938240" y="44863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335240" y="4267080"/>
            <a:ext cx="60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463760" y="447840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049560" y="4203720"/>
            <a:ext cx="488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52720" y="4203720"/>
            <a:ext cx="3733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030560" y="447840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276720" y="44863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5346720" y="4262400"/>
            <a:ext cx="460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576760" y="450540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1123920" y="4219560"/>
            <a:ext cx="372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211400" y="447192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1803240" y="4203720"/>
            <a:ext cx="603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1211400" y="4626000"/>
            <a:ext cx="4365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6" name=""/>
          <p:cNvGrpSpPr/>
          <p:nvPr/>
        </p:nvGrpSpPr>
        <p:grpSpPr>
          <a:xfrm>
            <a:off x="2549520" y="5049720"/>
            <a:ext cx="4682880" cy="920520"/>
            <a:chOff x="2549520" y="5049720"/>
            <a:chExt cx="4682880" cy="920520"/>
          </a:xfrm>
        </p:grpSpPr>
        <p:sp>
          <p:nvSpPr>
            <p:cNvPr id="1687" name=""/>
            <p:cNvSpPr/>
            <p:nvPr/>
          </p:nvSpPr>
          <p:spPr>
            <a:xfrm>
              <a:off x="2636280" y="5727600"/>
              <a:ext cx="51588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Stud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153600" y="5727600"/>
              <a:ext cx="51624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cep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670200" y="5727600"/>
              <a:ext cx="103356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Implementation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704120" y="5727600"/>
              <a:ext cx="74808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Test -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Ready for Integr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452200" y="5727600"/>
              <a:ext cx="154980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Maintenan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093840" y="545220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612960" y="545616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651560" y="545616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431320" y="546012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638520" y="533196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008880" y="5057280"/>
              <a:ext cx="6026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S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123720" y="532404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474800" y="5049720"/>
              <a:ext cx="4892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278320" y="5049720"/>
              <a:ext cx="3740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456520" y="532404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702320" y="533196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773040" y="5108040"/>
              <a:ext cx="459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003440" y="535068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549520" y="5066640"/>
              <a:ext cx="3736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636280" y="531720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439800" y="5049720"/>
              <a:ext cx="6026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636280" y="5470560"/>
              <a:ext cx="436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9" name=""/>
          <p:cNvSpPr/>
          <p:nvPr/>
        </p:nvSpPr>
        <p:spPr>
          <a:xfrm>
            <a:off x="1123920" y="2149560"/>
            <a:ext cx="203400" cy="1388880"/>
          </a:xfrm>
          <a:custGeom>
            <a:avLst/>
            <a:gdLst/>
            <a:ahLst/>
            <a:rect l="l" t="t" r="r" b="b"/>
            <a:pathLst>
              <a:path w="136" h="1043">
                <a:moveTo>
                  <a:pt x="136" y="0"/>
                </a:moveTo>
                <a:cubicBezTo>
                  <a:pt x="68" y="162"/>
                  <a:pt x="0" y="325"/>
                  <a:pt x="0" y="499"/>
                </a:cubicBezTo>
                <a:cubicBezTo>
                  <a:pt x="0" y="673"/>
                  <a:pt x="68" y="858"/>
                  <a:pt x="136" y="104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977760" y="2149560"/>
            <a:ext cx="349560" cy="2476440"/>
          </a:xfrm>
          <a:custGeom>
            <a:avLst/>
            <a:gdLst/>
            <a:ahLst/>
            <a:rect l="l" t="t" r="r" b="b"/>
            <a:pathLst>
              <a:path w="234" h="1860">
                <a:moveTo>
                  <a:pt x="234" y="0"/>
                </a:moveTo>
                <a:cubicBezTo>
                  <a:pt x="124" y="72"/>
                  <a:pt x="14" y="144"/>
                  <a:pt x="7" y="454"/>
                </a:cubicBezTo>
                <a:cubicBezTo>
                  <a:pt x="0" y="764"/>
                  <a:pt x="94" y="1312"/>
                  <a:pt x="189" y="186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110120" y="2149560"/>
            <a:ext cx="225360" cy="1388880"/>
          </a:xfrm>
          <a:custGeom>
            <a:avLst/>
            <a:gdLst/>
            <a:ahLst/>
            <a:rect l="l" t="t" r="r" b="b"/>
            <a:pathLst>
              <a:path w="151" h="1043">
                <a:moveTo>
                  <a:pt x="0" y="1043"/>
                </a:moveTo>
                <a:cubicBezTo>
                  <a:pt x="60" y="812"/>
                  <a:pt x="121" y="582"/>
                  <a:pt x="136" y="408"/>
                </a:cubicBezTo>
                <a:cubicBezTo>
                  <a:pt x="151" y="234"/>
                  <a:pt x="120" y="117"/>
                  <a:pt x="9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110120" y="2149560"/>
            <a:ext cx="428400" cy="2476440"/>
          </a:xfrm>
          <a:custGeom>
            <a:avLst/>
            <a:gdLst/>
            <a:ahLst/>
            <a:rect l="l" t="t" r="r" b="b"/>
            <a:pathLst>
              <a:path w="287" h="1860">
                <a:moveTo>
                  <a:pt x="0" y="1860"/>
                </a:moveTo>
                <a:cubicBezTo>
                  <a:pt x="128" y="1448"/>
                  <a:pt x="257" y="1036"/>
                  <a:pt x="272" y="726"/>
                </a:cubicBezTo>
                <a:cubicBezTo>
                  <a:pt x="287" y="416"/>
                  <a:pt x="188" y="208"/>
                  <a:pt x="9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467320" y="2149560"/>
            <a:ext cx="915840" cy="3322440"/>
          </a:xfrm>
          <a:custGeom>
            <a:avLst/>
            <a:gdLst/>
            <a:ahLst/>
            <a:rect l="l" t="t" r="r" b="b"/>
            <a:pathLst>
              <a:path w="612" h="2495">
                <a:moveTo>
                  <a:pt x="0" y="2495"/>
                </a:moveTo>
                <a:cubicBezTo>
                  <a:pt x="238" y="1863"/>
                  <a:pt x="476" y="1232"/>
                  <a:pt x="544" y="816"/>
                </a:cubicBezTo>
                <a:cubicBezTo>
                  <a:pt x="612" y="400"/>
                  <a:pt x="510" y="200"/>
                  <a:pt x="40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785880" y="2882880"/>
            <a:ext cx="60948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asic </a:t>
            </a:r>
            <a:br>
              <a:rPr sz="700"/>
            </a:b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easibil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1395360" y="2639880"/>
            <a:ext cx="6112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on paper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chemat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2003400" y="2882880"/>
            <a:ext cx="244620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. system board ru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449600" y="2639880"/>
            <a:ext cx="60984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CB tested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nd work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059440" y="2874960"/>
            <a:ext cx="129060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ready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for product dev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350040" y="2631960"/>
            <a:ext cx="142380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compliant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nd fully work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7773840" y="2874960"/>
            <a:ext cx="94932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ainance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11200" y="2639880"/>
            <a:ext cx="272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BS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47720" y="2155680"/>
            <a:ext cx="79754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68760" bIns="-68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714240" y="21146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1020600" y="211932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327320" y="21146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163368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194004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224784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255420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286056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16692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473280" y="2122560"/>
            <a:ext cx="702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78144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08780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39416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7005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00688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5315040" y="212724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5621400" y="212256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927760" y="212724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62341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54048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6848640" y="212724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7155000" y="212256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7461360" y="213048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77677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8070840" y="212724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49440" y="1719360"/>
            <a:ext cx="4410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50960" y="19861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1969920" y="199548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766880" y="1719360"/>
            <a:ext cx="44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1158840" y="171936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36368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3906720" y="1585800"/>
            <a:ext cx="71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b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4143240" y="1765440"/>
            <a:ext cx="576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42260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657760" y="19796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460840" y="1716120"/>
            <a:ext cx="4399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951520" y="1523880"/>
            <a:ext cx="6541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1)P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26436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842240" y="1727280"/>
            <a:ext cx="6541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2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81122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44600" y="2270160"/>
            <a:ext cx="679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8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1058760" y="2370240"/>
            <a:ext cx="6764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6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66536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132440" y="2238480"/>
            <a:ext cx="6775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6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533088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2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012000" y="236052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84368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 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8485200" y="1727280"/>
            <a:ext cx="44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16080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83688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31172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2954160" y="2452680"/>
            <a:ext cx="5432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1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567240" y="2452680"/>
            <a:ext cx="5428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2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041720" y="2452680"/>
            <a:ext cx="5428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3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8008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459560" y="1727280"/>
            <a:ext cx="6541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4788000" y="1577880"/>
            <a:ext cx="882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ew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0306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721400" y="2330280"/>
            <a:ext cx="6775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 rot="10800000">
            <a:off x="5452920" y="1480680"/>
            <a:ext cx="39384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4767480" y="1260360"/>
            <a:ext cx="18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rot="10800000">
            <a:off x="1123920" y="1558440"/>
            <a:ext cx="39384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05880" y="1338120"/>
            <a:ext cx="192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 rot="10800000">
            <a:off x="1145880" y="3061800"/>
            <a:ext cx="39348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62400" y="2843280"/>
            <a:ext cx="25502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re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 rot="10800000">
            <a:off x="3398760" y="5027760"/>
            <a:ext cx="393840" cy="1332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839960" y="4443480"/>
            <a:ext cx="1473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336600" y="1035000"/>
            <a:ext cx="241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chematic Platform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17600" y="6165720"/>
            <a:ext cx="835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For NG SW project specification for planning not su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 rot="10800000">
            <a:off x="1747800" y="4150800"/>
            <a:ext cx="393840" cy="13356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rot="10800000">
            <a:off x="147600" y="5713560"/>
            <a:ext cx="393840" cy="1332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09560" y="5637240"/>
            <a:ext cx="762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29480" y="353880"/>
            <a:ext cx="55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st 65 Generation in FY04/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1560" y="1249200"/>
            <a:ext cx="8648280" cy="4972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cus on impact on this F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borate already developed technolog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, available from 01/05, so far no 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mode, available from 01/05 (without Doja), so far only 5k 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new sales channels by generating „stories“ around exi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g. rescue phone (M65 in r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existing design variants to make deals with „local exclusivity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g. CX70 „Butterfly Design“ exclusive for Rus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olor refreshes for deals with consortia or to increase attra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lusive new colors for SL65 for T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opard refre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29480" y="353880"/>
            <a:ext cx="55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st 65 Generation in FY04/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40" y="1278000"/>
            <a:ext cx="7589160" cy="4362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ture upgrade for specific ph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e2go for SK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 SW for SK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e Doja implementation for I-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usic story for 65 generation products via MP3 head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MP3 headset, including Java based 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ackage specific products, use already existing design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65 without cam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adaptations to S65 exclusively for T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art Athena (Hera without came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ackage Iris into old Apollo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27320" y="353880"/>
            <a:ext cx="46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tus of current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69920" y="1162080"/>
          <a:ext cx="8843760" cy="5033880"/>
        </p:xfrm>
        <a:graphic>
          <a:graphicData uri="http://schemas.openxmlformats.org/drawingml/2006/table">
            <a:tbl>
              <a:tblPr/>
              <a:tblGrid>
                <a:gridCol w="1789200"/>
                <a:gridCol w="1481040"/>
                <a:gridCol w="1596960"/>
                <a:gridCol w="1422360"/>
                <a:gridCol w="1392120"/>
                <a:gridCol w="116208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Imp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aborate technologies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-m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volume for C70; CX70 (M6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volume for CX70 and S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SW avail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-mode SW (without Doj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il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listing/orders for PaT de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ja avail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ach all operator that are launching P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chmone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andoek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„Stories“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cue ph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potential for M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ons approach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dle with Debit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 qualifica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om mate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bau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existing designs for exclusive de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X70 „Butterfly Design“ Rus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volume for CX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 with customer started, feedback expected until 03.12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andoek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69920" y="1362240"/>
          <a:ext cx="8843760" cy="4589280"/>
        </p:xfrm>
        <a:graphic>
          <a:graphicData uri="http://schemas.openxmlformats.org/drawingml/2006/table">
            <a:tbl>
              <a:tblPr/>
              <a:tblGrid>
                <a:gridCol w="1673280"/>
                <a:gridCol w="1596960"/>
                <a:gridCol w="1596960"/>
                <a:gridCol w="1422360"/>
                <a:gridCol w="1363680"/>
                <a:gridCol w="11905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Imp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 upgra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ce2g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x. 50k units SK65 upsi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 estimation started at P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 avail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resour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king SW for SK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ox. 50k units SK65 upsid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 SW requested by custom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feasibility not cl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y requir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e Do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volume for CX70, S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ja available 22.01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 avail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resour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 story for 65 Gene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7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 story for 65 Gene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MP3 headset incl. Java based U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side potential for bundles, specifically for S65 and SK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Techn. feasibilit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i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Timeline fo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housing w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ind solution f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Reques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84560" y="325440"/>
            <a:ext cx="46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tus of current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69920" y="1362240"/>
          <a:ext cx="8843760" cy="4402080"/>
        </p:xfrm>
        <a:graphic>
          <a:graphicData uri="http://schemas.openxmlformats.org/drawingml/2006/table">
            <a:tbl>
              <a:tblPr/>
              <a:tblGrid>
                <a:gridCol w="1673280"/>
                <a:gridCol w="1596960"/>
                <a:gridCol w="1596960"/>
                <a:gridCol w="1422360"/>
                <a:gridCol w="1363680"/>
                <a:gridCol w="11905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Imp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i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ackaging produ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65 without cam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‘ – 4‘ € Eb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 planned for 08.12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umga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2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-500k units at 99€ for FY 04/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esign is star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irst desig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shop with VF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d on 29.11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ilability of resources, specifically lay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 person from layo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n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adaptation to S65 for TM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k units upside potent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derings presented to TMO, feedback expected by 15.12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ch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rt Athe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 to 1‘ units price line estimated at 70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ctivities started y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rofit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osition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 portfol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y profit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ackage Iris into old Apollo desig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k uni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ctivities started y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l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y timeline, effort resources and financial imp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27320" y="353880"/>
            <a:ext cx="46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tus of current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52600" y="5958000"/>
            <a:ext cx="7976880" cy="60480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9480" y="353880"/>
            <a:ext cx="36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-Mode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280" y="1131840"/>
          <a:ext cx="8628120" cy="4221360"/>
        </p:xfrm>
        <a:graphic>
          <a:graphicData uri="http://schemas.openxmlformats.org/drawingml/2006/table">
            <a:tbl>
              <a:tblPr/>
              <a:tblGrid>
                <a:gridCol w="1130400"/>
                <a:gridCol w="1968480"/>
                <a:gridCol w="1871640"/>
                <a:gridCol w="2352600"/>
                <a:gridCol w="1305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de-DE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Xi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-mode operato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/ Wh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P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k/mont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launch in De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 the SW on first of Dec for the Approval in CW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hau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12.04 -&gt; d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l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k/mont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04.05-&gt; 10k/month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launch CX70 but stock issues -&gt; will launch in Jan/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ck clea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 Test  SW to get the Approval on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hau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12.04 -&gt; d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m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k/mon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planned in 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 download has to be deactiv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e CR and imple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eme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2-&gt;22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f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interested but requires doja 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of doja 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ja timeline -&gt; DS SW on 22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iem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uyg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k over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ab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s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s deliver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feedback y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call region and custom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sch 05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s delive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planned in 05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-mode service y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 doja 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Liem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384560" y="5948280"/>
            <a:ext cx="655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ze the upside potential from i-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8520" y="5396040"/>
            <a:ext cx="8382960" cy="368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6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s on hold, since Docomo is asking for Doja1.5 -&gt; AI: Kerstin Lohman, 03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demx11k2</dc:creator>
  <dc:description/>
  <dc:language>en-US</dc:language>
  <cp:lastModifiedBy>Klebsch Wolfgang</cp:lastModifiedBy>
  <dcterms:modified xsi:type="dcterms:W3CDTF">2004-12-02T15:00:13Z</dcterms:modified>
  <cp:revision>978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48356067</vt:r8>
  </property>
  <property fmtid="{D5CDD505-2E9C-101B-9397-08002B2CF9AE}" pid="3" name="_AuthorEmail">
    <vt:lpwstr>katrin.braun@siemens.com</vt:lpwstr>
  </property>
  <property fmtid="{D5CDD505-2E9C-101B-9397-08002B2CF9AE}" pid="4" name="_AuthorEmailDisplayName">
    <vt:lpwstr>Braun Katrin ICM MP PBM PG85</vt:lpwstr>
  </property>
  <property fmtid="{D5CDD505-2E9C-101B-9397-08002B2CF9AE}" pid="5" name="_EmailSubject">
    <vt:lpwstr>Präsentation</vt:lpwstr>
  </property>
  <property fmtid="{D5CDD505-2E9C-101B-9397-08002B2CF9AE}" pid="6" name="_ReviewingToolsShownOnce">
    <vt:lpwstr/>
  </property>
</Properties>
</file>